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39.wmf" ContentType="image/x-wmf"/>
  <Override PartName="/ppt/media/image9.wmf" ContentType="image/x-wmf"/>
  <Override PartName="/ppt/media/image11.wmf" ContentType="image/x-wmf"/>
  <Override PartName="/ppt/media/image5.jpeg" ContentType="image/jpeg"/>
  <Override PartName="/ppt/media/image48.wmf" ContentType="image/x-wmf"/>
  <Override PartName="/ppt/media/image18.wmf" ContentType="image/x-wmf"/>
  <Override PartName="/ppt/media/image20.wmf" ContentType="image/x-wmf"/>
  <Override PartName="/ppt/media/image57.wmf" ContentType="image/x-wmf"/>
  <Override PartName="/ppt/media/image50.wmf" ContentType="image/x-wmf"/>
  <Override PartName="/ppt/media/image1.jpeg" ContentType="image/jpeg"/>
  <Override PartName="/ppt/media/image15.wmf" ContentType="image/x-wmf"/>
  <Override PartName="/ppt/media/image46.jpeg" ContentType="image/jpeg"/>
  <Override PartName="/ppt/media/image26.wmf" ContentType="image/x-wmf"/>
  <Override PartName="/ppt/media/image16.wmf" ContentType="image/x-wmf"/>
  <Override PartName="/ppt/media/image17.wmf" ContentType="image/x-wmf"/>
  <Override PartName="/ppt/media/image58.wmf" ContentType="image/x-wmf"/>
  <Override PartName="/ppt/media/image28.wmf" ContentType="image/x-wmf"/>
  <Override PartName="/ppt/media/image21.wmf" ContentType="image/x-wmf"/>
  <Override PartName="/ppt/media/image60.jpeg" ContentType="image/jpeg"/>
  <Override PartName="/ppt/media/image27.wmf" ContentType="image/x-wmf"/>
  <Override PartName="/ppt/media/image63.wmf" ContentType="image/x-wmf"/>
  <Override PartName="/ppt/media/image29.wmf" ContentType="image/x-wmf"/>
  <Override PartName="/ppt/media/image62.wmf" ContentType="image/x-wmf"/>
  <Override PartName="/ppt/media/image25.wmf" ContentType="image/x-wmf"/>
  <Override PartName="/ppt/media/image23.wmf" ContentType="image/x-wmf"/>
  <Override PartName="/ppt/media/image61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14.wmf" ContentType="image/x-wmf"/>
  <Override PartName="/ppt/media/image2.png" ContentType="image/png"/>
  <Override PartName="/ppt/media/image4.jpeg" ContentType="image/jpeg"/>
  <Override PartName="/ppt/media/image8.wmf" ContentType="image/x-wmf"/>
  <Override PartName="/ppt/media/image38.wmf" ContentType="image/x-wmf"/>
  <Override PartName="/ppt/media/image10.wmf" ContentType="image/x-wmf"/>
  <Override PartName="/ppt/media/image47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13.wmf" ContentType="image/x-wmf"/>
  <Override PartName="/ppt/media/image3.png" ContentType="image/png"/>
  <Override PartName="/ppt/media/image30.wmf" ContentType="image/x-wmf"/>
  <Override PartName="/ppt/media/image31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6.png" ContentType="image/png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51.wmf" ContentType="image/x-wmf"/>
  <Override PartName="/ppt/media/image52.wmf" ContentType="image/x-wm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B9A6-246B-485A-A771-8A6F6FECA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8D63-FDDD-4ABC-9B77-DAB8CEC7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AA537-9C1A-47A8-8961-E98B3A48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EDCC03-2399-44BE-A882-2424AE56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EEF958-E353-4536-8ABC-AF8C4C47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C051D-53B3-41B0-B6CA-ED6BF647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9BD6FE-12D7-4DE0-9EAF-F8C0155B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C3D0A-E949-416C-A746-4F31AC93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7700F-BAB1-4CB7-81D2-77FDD795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D98C8-1A50-46AF-BBB0-1D9253550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190304-BADD-4EA2-9EA6-FE24A9AED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B5831E-BBA3-44BF-84AE-21C53172A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1B41-583C-4B5D-8779-EC07968FF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F35654-A1D4-4CDC-BAA3-9F3A6136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C57443-E38B-4B2F-92F7-5A76FE9E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ED175-766D-4636-8477-88AB99E5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D07F5B-F383-49B6-9061-D538E668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EC70D2-AA77-4784-9986-D5D29349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6BFD5C-E401-423E-80E7-9F48C847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C6AD32-65E3-4104-8D19-E4F3F933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9B3D9C-5D9B-437C-A7ED-E4E052FE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0A0C0-313F-4625-A1E2-8A5A0E09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FB972F-EFA8-46A9-84C7-B9EADB262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C70F-0E34-4C6A-9B4D-28308D077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CB64A-78E1-4753-B71D-7A9EC117C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F55FF-C1B9-4558-8161-44467F785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9BB75C-EA53-4200-AE25-9DA2333C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366B8-0528-4348-AA9C-E66D14A8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957E4-57D2-4B98-9CE2-53B1C0CC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A4430-4C44-4B3F-85E8-B7172AA0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BAA1C-34B7-46E4-A450-0CE28FFC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70B4E-FDF9-4142-BEDC-4C6438D1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771CF-AE88-46B8-BE68-482A69B2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97ECD-E0C5-4D8F-B4BA-410118FD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292C-A54F-4F90-820C-6A695463E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92D91-73D6-4CAA-9549-0736E099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FAE98-47A8-478A-9CC3-F169AC732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E1C3A-7D85-4364-AB49-74250573E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109B27-5624-4515-8641-1014FC151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99423A-5BB1-400E-A599-316C17A1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6FB3C7-6E5E-4B92-ACD5-51F7A253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96BA37-E3A0-4D13-878A-49ED789F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19AC56-4BCC-41CE-B787-989DEA20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F6758C-C000-4269-9BCC-FCB4F269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1C8CEE-2520-4F95-AD62-DAE37AD1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E241-0F17-428A-B8CD-BCDD4157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9611F3-6431-4C32-A8E3-D430A8DD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9C0ACD-92F0-4098-96F2-E123BFF3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699981-C432-41A4-9FE0-49D56ADB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E70BA9-30CB-4501-B8C8-4D7F5FB7D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0DE4E3-DD97-4DF7-BB93-26B8DDA54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B393A9-79E6-47C9-B211-8A56A29C4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9FEA79-CD4C-4917-9390-38CFAB04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82CED2-CA69-46C8-8FAD-ACA6D33E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7AADF7-ADDF-4136-A5BC-BAB141E9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63E3EA-2084-4AB2-9D49-EAD6558A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7D9B-8ED3-4D2D-A31E-7A824162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E7C1D4-6A69-4312-9966-87196640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B4D8D9-27D2-4455-9212-369AFBD5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51CEF0-34A4-4D79-8903-AE4924B3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926CBD-4080-4E81-9E89-B45EB300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DD9FF1-5710-4A4F-AB23-E2391F56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E82A7B-A4CD-4A43-B023-3D74C1B23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6B3F7E-5771-4F5E-934B-233E871D7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C5DA3F-A4F3-47D9-B42F-C4BBAE7CC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CBF5C4-AB77-45A2-BCBB-EE51811D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0B7722-76BC-4F90-9E40-02001B67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7508-CF97-49AB-81BC-7BC3202D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A18913-F5A4-47FC-BA16-F2C16289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6E0C68-70B8-4015-BE99-8915B7F4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4BFB8E-032E-484F-8157-BB565386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0E02D7-D672-4EEA-82FF-D7FF4509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153D23-F477-4863-9A4B-5A7E7CDD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312FCB-7E54-4404-94DA-333B9768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9DC6EB-D065-47CE-A9AF-BB6E4EAC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7C95CA-87C4-4BEC-AEB8-4F72A2F18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04DE1A-6071-4A1F-8E0A-535E03774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FC30BC-EC12-47C1-A5A8-962152A30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E438-1BB7-4492-9C67-45A8A272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469604-D81C-45D1-AE72-8514BEA0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02938F-C859-4FF4-BA93-D04B5B18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690F66-DA0E-40AB-8AD2-B36B7338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ACFBF4-FBDA-421B-A85C-DB284077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579B03-9472-4CB3-8DDE-0AB08A6E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94C814-17F4-424E-B5D4-9C595DDB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BE2E83-06C0-49F9-AAA0-D500BC2A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47F8A0-B7BB-4DA3-B5E3-DB2D295D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F8C1E3-C474-47AE-B622-857D7EE7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1C08DB-DB51-4A35-8960-B54E647CE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FCAE-1A58-4DEF-87B9-F69F5E0C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C39D81-C493-4F11-A1A5-70AF5E08F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33B5-8570-4B05-B913-327CD16F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8833-0363-4DBE-91D2-D7022F19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E075-1383-45D0-9624-4CD1C68A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4CAD-BAFA-448D-8B84-FA2DC254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35A7-7D7F-4E06-A4AD-B7245075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1607-E6CB-41A1-8FB0-82DF73225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2382-1A41-435B-AF36-6AA637AF9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F5405-2918-4939-AE4C-A10BFD19A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C667F-4227-4930-84BC-9DF97BDE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F5A10-523E-43A5-ADC0-19A3BFB6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FD598-B2C5-49E0-9420-AE2F75EA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02E17-9BBB-4FB0-88EE-6FC2D69C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69ED-649F-45EC-AF17-6E3A42F8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278F2-8D7B-4A9A-AAB9-A7136CCE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78337-8F9E-453B-ADA2-721B2ACB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09A44-CBD2-4F90-AA83-DB41DD0B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3E977-4FFD-42F9-B22D-8C78DE08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C2C1F-1A3E-4441-86CB-73E0EB77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9042A-C337-4AF7-8073-0F91E03A0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C73AE-B1E5-41B8-95C2-DA69EA1E0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8B1B9-A127-4FAB-89C5-815D6A283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A88CC-43D2-4278-A440-CA36BABF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9B638-D7C6-4A60-919C-F9FA8CF1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0BFE-45B7-4528-869E-089B20D0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D3655-01BE-4E1F-8E07-D8AC1588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3FBDA-426D-4A78-A2EE-B2D727B1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C9D1C-C333-4912-8E0C-1052A57A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4C4BF-A37D-430B-B9F0-AF5DF42E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FD2C6-44DD-4DA9-A5DE-62547CA1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9DFB6-BC16-4024-AC6C-1B0E90BE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CC4A8-7AA0-40BE-8481-5AA45F9B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EFE05-996C-4FB3-BF62-13D4F0DD6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E2F83-D444-4CD7-990F-A56F19985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CD473-A5B8-468E-B2B3-418AD37E6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8AEE-C75B-443D-B8A8-717172FF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48161-A113-461B-9403-39EAEB55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2B8D0-F69A-4F73-9829-39B97BBA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39967-868C-4026-9310-B18EF638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AEB84-3A02-45C1-B00B-E9F4A66D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40429-1093-40DF-9C18-FD9C05B9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D6559-D4BA-48A6-9519-2E975EDE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0ED98-8F67-40D5-936E-0286E664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CF50A-57A2-47F7-ABAD-4CD782D8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F13AE-6470-4870-A5BE-ABDF1364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6EC48-1BA9-41FF-A21A-B98CD3516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0496-CFDC-405C-9919-EDAADD4B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FF114-3BAD-4FD4-88A8-2C153381E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985BB-95E7-4C5F-8D2A-E17FB931B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3C233-D5F2-4F00-AE67-155E07FE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5DB0C-24EA-469A-A7B1-A68298B6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6B66B-D097-4963-946F-E8DD12C9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BB38D-2905-41FA-BB80-CFFBF44F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15AFD-F675-48A0-9B22-29788773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0BC5D-41CC-4956-BA6C-D7CA675E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4C900-7E93-417D-86B6-6603B680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3C539-0F29-49A6-8100-B8810C1E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7219-8CCF-4DC2-BA5F-7B1B84A8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7D28F-E2CE-4AE1-8EC5-D79FC383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FAD83-25DF-488D-B92B-327CFC92E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3939D-8F32-4DCD-8209-69BE2962D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5E180-DFDC-472A-A0AE-199BE4634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1DE92-736A-4999-923E-6D099553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A37A0-FEBC-4B59-A9DB-1FDFAA9D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5C2D1-C10E-4052-AC12-A33AC9F3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92C13-AF00-4ED1-B766-E9A88BB0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6241D-0FF3-49C1-A9B0-02C0EEB7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C3249-C13F-4E93-B3EF-E0F4F01E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B68B-F73B-4051-8C45-E76D59EA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320BC-C31A-43D9-8E67-B653E583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EF117-D6EB-47E5-A642-FC2B5B22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C44F8-9A08-49DF-9AF9-823711B5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F241A-7821-407C-A8FC-50070CDCF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358C0-DC48-4C12-88A9-52D137E60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4D167-FAC2-4EBA-9BF1-1DEE9CF4F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BF9C7-A20B-44F7-8FDD-0563463E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6BF19-58C0-45AB-A630-D35903FB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3D17F-2462-4A20-BD90-CECA79BB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D2621-6520-4E7E-B773-5A5AF839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F03E-334B-4A67-B360-8179D6AF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E5829-2625-49C2-A83D-491FFE93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842B6-571B-4EF6-9520-EF727B03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5D0D3-526C-4F43-94FA-40D4E003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60941-1A66-4773-B64C-A9397766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13605-0B0F-42B9-8186-DAF5A210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29682-0D5A-4641-B17E-FF30FC30C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54906-6A86-456B-9D34-FF32EF114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D59BA-ED99-41F0-BB56-5E69E7393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AEBA40-1BA0-49F1-8961-C4BDD61D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6D0C0-7016-4C6A-B9E5-399433D5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1BF3-3BDD-41E7-BFD6-DD1806331F4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85DB-4E15-4888-BBF6-9F7AB706D5E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07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13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C713-EBA4-4644-BD7D-6F53ECA5683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6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18FA-2700-49EA-AD12-55384978328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48B9-0F89-4872-BDE0-E5CDDD50442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50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5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5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6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6AEA-F08C-4BEC-A834-1E8BD6C0F26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0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70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0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7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17DA-FE1A-45A1-B635-3EB2A35FFAD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0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5B83-B6BC-4493-A0EC-EE98286B0B5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1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F49D-4C06-41E8-8BBE-4D76934DA6C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2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49B6-31DF-4F1E-9CA7-0D50549A066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7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3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27E9-12FD-480B-8B68-A6310C654FD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976F-4E00-4640-B21C-88102D8988A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1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1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5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E4D8-D0B5-4812-A790-DC6AAD94506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60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6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66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719C-F096-44BE-BFC2-7F93B4CBD42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1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1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1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17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6B8F-10FE-4A8D-8597-0F7116FD1E8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image" Target="../media/image35.wmf"/><Relationship Id="rId1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wmf"/><Relationship Id="rId1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image" Target="../media/image46.jpe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1.wmf"/><Relationship Id="rId1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image" Target="../media/image46.jpeg"/><Relationship Id="rId10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9.wmf"/><Relationship Id="rId9" Type="http://schemas.openxmlformats.org/officeDocument/2006/relationships/image" Target="../media/image46.jpeg"/><Relationship Id="rId10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image" Target="../media/image62.wmf"/><Relationship Id="rId4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image" Target="../media/image60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TextBox 2"/>
          <p:cNvSpPr/>
          <p:nvPr/>
        </p:nvSpPr>
        <p:spPr>
          <a:xfrm>
            <a:off x="395280" y="126828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2017/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4"/>
          <p:cNvSpPr/>
          <p:nvPr/>
        </p:nvSpPr>
        <p:spPr>
          <a:xfrm>
            <a:off x="539640" y="2997360"/>
            <a:ext cx="79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налитичка хемија (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04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дма неде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ник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. др Марија Д. Живковић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Straight Connector 11"/>
          <p:cNvSpPr/>
          <p:nvPr/>
        </p:nvSpPr>
        <p:spPr>
          <a:xfrm>
            <a:off x="1979640" y="2867040"/>
            <a:ext cx="46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traight Connector 12"/>
          <p:cNvSpPr/>
          <p:nvPr/>
        </p:nvSpPr>
        <p:spPr>
          <a:xfrm>
            <a:off x="4140360" y="28670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Straight Connector 13"/>
          <p:cNvSpPr/>
          <p:nvPr/>
        </p:nvSpPr>
        <p:spPr>
          <a:xfrm flipV="1">
            <a:off x="2119320" y="3300120"/>
            <a:ext cx="426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6" name="Straight Arrow Connector 14"/>
          <p:cNvCxnSpPr/>
          <p:nvPr/>
        </p:nvCxnSpPr>
        <p:spPr>
          <a:xfrm>
            <a:off x="2123640" y="329832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7" name="Straight Arrow Connector 15"/>
          <p:cNvCxnSpPr/>
          <p:nvPr/>
        </p:nvCxnSpPr>
        <p:spPr>
          <a:xfrm>
            <a:off x="6372000" y="329832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8" name="Straight Connector 16"/>
          <p:cNvSpPr/>
          <p:nvPr/>
        </p:nvSpPr>
        <p:spPr>
          <a:xfrm>
            <a:off x="900000" y="4005360"/>
            <a:ext cx="250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Straight Connector 17"/>
          <p:cNvSpPr/>
          <p:nvPr/>
        </p:nvSpPr>
        <p:spPr>
          <a:xfrm>
            <a:off x="4859280" y="409428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0" name="Straight Arrow Connector 18"/>
          <p:cNvCxnSpPr/>
          <p:nvPr/>
        </p:nvCxnSpPr>
        <p:spPr>
          <a:xfrm>
            <a:off x="2093400" y="401292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1" name="Straight Connector 23"/>
          <p:cNvSpPr/>
          <p:nvPr/>
        </p:nvSpPr>
        <p:spPr>
          <a:xfrm flipV="1">
            <a:off x="5611680" y="4503600"/>
            <a:ext cx="1839960" cy="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Straight Connector 26"/>
          <p:cNvSpPr/>
          <p:nvPr/>
        </p:nvSpPr>
        <p:spPr>
          <a:xfrm flipV="1">
            <a:off x="1363680" y="4723920"/>
            <a:ext cx="14349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Box 90"/>
          <p:cNvSpPr/>
          <p:nvPr/>
        </p:nvSpPr>
        <p:spPr>
          <a:xfrm>
            <a:off x="1763640" y="2960640"/>
            <a:ext cx="792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91"/>
          <p:cNvSpPr/>
          <p:nvPr/>
        </p:nvSpPr>
        <p:spPr>
          <a:xfrm>
            <a:off x="6300720" y="2946240"/>
            <a:ext cx="1008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Straight Connector 42"/>
          <p:cNvSpPr/>
          <p:nvPr/>
        </p:nvSpPr>
        <p:spPr>
          <a:xfrm>
            <a:off x="1258920" y="1773360"/>
            <a:ext cx="554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Box 1"/>
          <p:cNvSpPr/>
          <p:nvPr/>
        </p:nvSpPr>
        <p:spPr>
          <a:xfrm>
            <a:off x="1763640" y="85572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тјони IV аналитичке гру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7" name="Straight Arrow Connector 44"/>
          <p:cNvCxnSpPr/>
          <p:nvPr/>
        </p:nvCxnSpPr>
        <p:spPr>
          <a:xfrm>
            <a:off x="3995280" y="177300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8" name="Rectangle 56"/>
          <p:cNvSpPr/>
          <p:nvPr/>
        </p:nvSpPr>
        <p:spPr>
          <a:xfrm>
            <a:off x="2118600" y="4011480"/>
            <a:ext cx="110124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. HNO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9" name="Straight Arrow Connector 64"/>
          <p:cNvCxnSpPr/>
          <p:nvPr/>
        </p:nvCxnSpPr>
        <p:spPr>
          <a:xfrm>
            <a:off x="2660400" y="558936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90" name="Rectangle 65"/>
          <p:cNvSpPr/>
          <p:nvPr/>
        </p:nvSpPr>
        <p:spPr>
          <a:xfrm>
            <a:off x="250920" y="5013360"/>
            <a:ext cx="187308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N +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милалкохол и ета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traight Connector 67"/>
          <p:cNvSpPr/>
          <p:nvPr/>
        </p:nvSpPr>
        <p:spPr>
          <a:xfrm>
            <a:off x="1363680" y="47322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2" name="Straight Arrow Connector 69"/>
          <p:cNvCxnSpPr/>
          <p:nvPr/>
        </p:nvCxnSpPr>
        <p:spPr>
          <a:xfrm>
            <a:off x="1331640" y="5589360"/>
            <a:ext cx="1080" cy="32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93" name="Rectangle 70"/>
          <p:cNvSpPr/>
          <p:nvPr/>
        </p:nvSpPr>
        <p:spPr>
          <a:xfrm>
            <a:off x="2124000" y="5013360"/>
            <a:ext cx="163476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метилглиокси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traight Connector 73"/>
          <p:cNvSpPr/>
          <p:nvPr/>
        </p:nvSpPr>
        <p:spPr>
          <a:xfrm>
            <a:off x="2790720" y="4724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76"/>
          <p:cNvSpPr/>
          <p:nvPr/>
        </p:nvSpPr>
        <p:spPr>
          <a:xfrm>
            <a:off x="128880" y="5951520"/>
            <a:ext cx="200772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NH</a:t>
            </a:r>
            <a:r>
              <a:rPr b="1" lang="en-US" sz="18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4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</a:t>
            </a:r>
            <a:r>
              <a:rPr b="1" lang="en-US" sz="18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[Co(SCN)</a:t>
            </a:r>
            <a:r>
              <a:rPr b="1" lang="en-US" sz="18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en-US" sz="1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лаво обојен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en-US" sz="1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гански сло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77"/>
          <p:cNvSpPr/>
          <p:nvPr/>
        </p:nvSpPr>
        <p:spPr>
          <a:xfrm>
            <a:off x="2273400" y="6021360"/>
            <a:ext cx="1259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мплекс N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en-US" sz="1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рвене бој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Straight Connector 83"/>
          <p:cNvSpPr/>
          <p:nvPr/>
        </p:nvSpPr>
        <p:spPr>
          <a:xfrm>
            <a:off x="6443640" y="4100400"/>
            <a:ext cx="12600" cy="3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8" name="Straight Arrow Connector 85"/>
          <p:cNvCxnSpPr/>
          <p:nvPr/>
        </p:nvCxnSpPr>
        <p:spPr>
          <a:xfrm>
            <a:off x="5606640" y="450828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9" name="Straight Arrow Connector 89"/>
          <p:cNvCxnSpPr/>
          <p:nvPr/>
        </p:nvCxnSpPr>
        <p:spPr>
          <a:xfrm>
            <a:off x="7451280" y="450828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00" name="Rectangle 91"/>
          <p:cNvSpPr/>
          <p:nvPr/>
        </p:nvSpPr>
        <p:spPr>
          <a:xfrm>
            <a:off x="8104680" y="5373720"/>
            <a:ext cx="992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дитизо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92"/>
          <p:cNvSpPr/>
          <p:nvPr/>
        </p:nvSpPr>
        <p:spPr>
          <a:xfrm>
            <a:off x="7455960" y="5970600"/>
            <a:ext cx="14821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     </a:t>
            </a:r>
            <a:r>
              <a:rPr b="1" lang="en-US" sz="15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раствор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ружичасте бој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1"/>
          <p:cNvSpPr/>
          <p:nvPr/>
        </p:nvSpPr>
        <p:spPr>
          <a:xfrm>
            <a:off x="2916360" y="140328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i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Z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55"/>
          <p:cNvSpPr/>
          <p:nvPr/>
        </p:nvSpPr>
        <p:spPr>
          <a:xfrm>
            <a:off x="4011120" y="1773360"/>
            <a:ext cx="95292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(N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4" name="Group 66"/>
          <p:cNvGrpSpPr/>
          <p:nvPr/>
        </p:nvGrpSpPr>
        <p:grpSpPr>
          <a:xfrm>
            <a:off x="2700360" y="2181240"/>
            <a:ext cx="3095640" cy="596520"/>
            <a:chOff x="2700360" y="2181240"/>
            <a:chExt cx="3095640" cy="596520"/>
          </a:xfrm>
        </p:grpSpPr>
        <p:sp>
          <p:nvSpPr>
            <p:cNvPr id="905" name="Rectangle 1"/>
            <p:cNvSpPr/>
            <p:nvPr/>
          </p:nvSpPr>
          <p:spPr>
            <a:xfrm>
              <a:off x="2700360" y="2181240"/>
              <a:ext cx="309564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S     NiS      MnS        Z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црн       црн     ружичаст      бео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6" name="Straight Arrow Connector 59"/>
            <p:cNvCxnSpPr/>
            <p:nvPr/>
          </p:nvCxnSpPr>
          <p:spPr>
            <a:xfrm>
              <a:off x="3320640" y="2204640"/>
              <a:ext cx="108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07" name="Straight Arrow Connector 60"/>
            <p:cNvCxnSpPr/>
            <p:nvPr/>
          </p:nvCxnSpPr>
          <p:spPr>
            <a:xfrm>
              <a:off x="3957120" y="2218680"/>
              <a:ext cx="108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08" name="Straight Arrow Connector 61"/>
            <p:cNvCxnSpPr/>
            <p:nvPr/>
          </p:nvCxnSpPr>
          <p:spPr>
            <a:xfrm>
              <a:off x="4787640" y="2203200"/>
              <a:ext cx="1080" cy="288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09" name="Straight Arrow Connector 62"/>
            <p:cNvCxnSpPr/>
            <p:nvPr/>
          </p:nvCxnSpPr>
          <p:spPr>
            <a:xfrm>
              <a:off x="5580000" y="2203200"/>
              <a:ext cx="1080" cy="288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910" name="TextBox 68"/>
          <p:cNvSpPr/>
          <p:nvPr/>
        </p:nvSpPr>
        <p:spPr>
          <a:xfrm>
            <a:off x="4140360" y="2924280"/>
            <a:ext cx="1152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HCl (2M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71"/>
          <p:cNvSpPr/>
          <p:nvPr/>
        </p:nvSpPr>
        <p:spPr>
          <a:xfrm>
            <a:off x="5750640" y="371628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Z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72"/>
          <p:cNvSpPr/>
          <p:nvPr/>
        </p:nvSpPr>
        <p:spPr>
          <a:xfrm>
            <a:off x="1593000" y="364500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 , N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82"/>
          <p:cNvSpPr/>
          <p:nvPr/>
        </p:nvSpPr>
        <p:spPr>
          <a:xfrm>
            <a:off x="1573560" y="4365720"/>
            <a:ext cx="10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i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88"/>
          <p:cNvSpPr/>
          <p:nvPr/>
        </p:nvSpPr>
        <p:spPr>
          <a:xfrm>
            <a:off x="6538320" y="4149720"/>
            <a:ext cx="170136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OH (6М) + 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93"/>
          <p:cNvSpPr/>
          <p:nvPr/>
        </p:nvSpPr>
        <p:spPr>
          <a:xfrm>
            <a:off x="5235120" y="486900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О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95"/>
          <p:cNvSpPr/>
          <p:nvPr/>
        </p:nvSpPr>
        <p:spPr>
          <a:xfrm>
            <a:off x="6842880" y="4859280"/>
            <a:ext cx="13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Zn(OH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Straight Connector 97"/>
          <p:cNvSpPr/>
          <p:nvPr/>
        </p:nvSpPr>
        <p:spPr>
          <a:xfrm>
            <a:off x="6732720" y="5300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8" name="Straight Arrow Connector 103"/>
          <p:cNvCxnSpPr/>
          <p:nvPr/>
        </p:nvCxnSpPr>
        <p:spPr>
          <a:xfrm>
            <a:off x="6732360" y="5300640"/>
            <a:ext cx="1080" cy="46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9" name="Straight Arrow Connector 106"/>
          <p:cNvCxnSpPr/>
          <p:nvPr/>
        </p:nvCxnSpPr>
        <p:spPr>
          <a:xfrm>
            <a:off x="8100720" y="5300640"/>
            <a:ext cx="1080" cy="46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20" name="Rectangle 107"/>
          <p:cNvSpPr/>
          <p:nvPr/>
        </p:nvSpPr>
        <p:spPr>
          <a:xfrm>
            <a:off x="5580000" y="5229360"/>
            <a:ext cx="93672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HNO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bO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108"/>
          <p:cNvSpPr/>
          <p:nvPr/>
        </p:nvSpPr>
        <p:spPr>
          <a:xfrm>
            <a:off x="4865760" y="5805360"/>
            <a:ext cx="148068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MnО</a:t>
            </a:r>
            <a:r>
              <a:rPr b="1" lang="en-US" sz="1800" spc="-1" strike="noStrike" baseline="-25000">
                <a:solidFill>
                  <a:srgbClr val="7030a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 baseline="30000">
                <a:solidFill>
                  <a:srgbClr val="7030a0"/>
                </a:solidFill>
                <a:latin typeface="Times New Roman"/>
                <a:ea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</a:t>
            </a:r>
            <a:r>
              <a:rPr b="1" lang="en-US" sz="15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ство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љубичасте бој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Straight Connector 110"/>
          <p:cNvSpPr/>
          <p:nvPr/>
        </p:nvSpPr>
        <p:spPr>
          <a:xfrm>
            <a:off x="4932360" y="52293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3" name="Straight Arrow Connector 115"/>
          <p:cNvCxnSpPr/>
          <p:nvPr/>
        </p:nvCxnSpPr>
        <p:spPr>
          <a:xfrm flipH="1">
            <a:off x="5596920" y="5206680"/>
            <a:ext cx="19800" cy="554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24" name="Rectangle 117"/>
          <p:cNvSpPr/>
          <p:nvPr/>
        </p:nvSpPr>
        <p:spPr>
          <a:xfrm>
            <a:off x="6448320" y="5877000"/>
            <a:ext cx="586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118"/>
          <p:cNvSpPr/>
          <p:nvPr/>
        </p:nvSpPr>
        <p:spPr>
          <a:xfrm>
            <a:off x="6737400" y="5373720"/>
            <a:ext cx="63324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1"/>
          <p:cNvSpPr/>
          <p:nvPr/>
        </p:nvSpPr>
        <p:spPr>
          <a:xfrm>
            <a:off x="6129360" y="132228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 - таложни реаген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TextBox 1"/>
          <p:cNvSpPr/>
          <p:nvPr/>
        </p:nvSpPr>
        <p:spPr>
          <a:xfrm>
            <a:off x="3059280" y="10526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балт (Co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8" name="Object 2"/>
          <p:cNvGraphicFramePr/>
          <p:nvPr/>
        </p:nvGraphicFramePr>
        <p:xfrm>
          <a:off x="2411280" y="1773360"/>
          <a:ext cx="4400640" cy="51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773360"/>
                    <a:ext cx="440064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0" name="Object 3"/>
          <p:cNvGraphicFramePr/>
          <p:nvPr/>
        </p:nvGraphicFramePr>
        <p:xfrm>
          <a:off x="108000" y="2637000"/>
          <a:ext cx="882504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2637000"/>
                    <a:ext cx="88250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2" name="Object 4"/>
          <p:cNvGraphicFramePr/>
          <p:nvPr/>
        </p:nvGraphicFramePr>
        <p:xfrm>
          <a:off x="755640" y="3213000"/>
          <a:ext cx="7310520" cy="36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3213000"/>
                    <a:ext cx="73105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4" name="TextBox 6"/>
          <p:cNvSpPr/>
          <p:nvPr/>
        </p:nvSpPr>
        <p:spPr>
          <a:xfrm>
            <a:off x="4788000" y="2141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ни 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5" name="Object 6"/>
          <p:cNvGraphicFramePr/>
          <p:nvPr/>
        </p:nvGraphicFramePr>
        <p:xfrm>
          <a:off x="3348000" y="3970440"/>
          <a:ext cx="1944720" cy="815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36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48000" y="3970440"/>
                    <a:ext cx="194472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7" name="TextBox 8"/>
          <p:cNvSpPr/>
          <p:nvPr/>
        </p:nvSpPr>
        <p:spPr>
          <a:xfrm>
            <a:off x="196920" y="5877000"/>
            <a:ext cx="855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 једињење се може екстраховати амил-алкохолом и слој амил-алкохола изнад раствора се обоји плав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Box 9"/>
          <p:cNvSpPr/>
          <p:nvPr/>
        </p:nvSpPr>
        <p:spPr>
          <a:xfrm>
            <a:off x="4411800" y="5445000"/>
            <a:ext cx="266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лаво обојен компле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9" name="Object 7"/>
          <p:cNvGraphicFramePr/>
          <p:nvPr/>
        </p:nvGraphicFramePr>
        <p:xfrm>
          <a:off x="108000" y="5013360"/>
          <a:ext cx="8889840" cy="444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40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000" y="5013360"/>
                    <a:ext cx="88898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TextBox 1"/>
          <p:cNvSpPr/>
          <p:nvPr/>
        </p:nvSpPr>
        <p:spPr>
          <a:xfrm>
            <a:off x="3203640" y="10526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икал (Ni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2" name="Object 2"/>
          <p:cNvGraphicFramePr/>
          <p:nvPr/>
        </p:nvGraphicFramePr>
        <p:xfrm>
          <a:off x="2340000" y="1844640"/>
          <a:ext cx="420696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844640"/>
                    <a:ext cx="42069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4" name="TextBox 3"/>
          <p:cNvSpPr/>
          <p:nvPr/>
        </p:nvSpPr>
        <p:spPr>
          <a:xfrm>
            <a:off x="4572000" y="21812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ни 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5" name="Object 3"/>
          <p:cNvGraphicFramePr/>
          <p:nvPr/>
        </p:nvGraphicFramePr>
        <p:xfrm>
          <a:off x="179280" y="2708280"/>
          <a:ext cx="874548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2708280"/>
                    <a:ext cx="87454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7" name="Object 4"/>
          <p:cNvGraphicFramePr/>
          <p:nvPr/>
        </p:nvGraphicFramePr>
        <p:xfrm>
          <a:off x="468360" y="3429000"/>
          <a:ext cx="7920000" cy="39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3429000"/>
                    <a:ext cx="792000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9" name="Object 5"/>
          <p:cNvGraphicFramePr/>
          <p:nvPr/>
        </p:nvGraphicFramePr>
        <p:xfrm>
          <a:off x="3203640" y="4076640"/>
          <a:ext cx="1944720" cy="816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5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3640" y="4076640"/>
                    <a:ext cx="194472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1" name="Picture 2" descr=""/>
          <p:cNvPicPr/>
          <p:nvPr/>
        </p:nvPicPr>
        <p:blipFill>
          <a:blip r:embed="rId9"/>
          <a:stretch/>
        </p:blipFill>
        <p:spPr>
          <a:xfrm>
            <a:off x="179280" y="5467320"/>
            <a:ext cx="5564160" cy="4586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5" descr=""/>
          <p:cNvPicPr/>
          <p:nvPr/>
        </p:nvPicPr>
        <p:blipFill>
          <a:blip r:embed="rId10"/>
          <a:stretch/>
        </p:blipFill>
        <p:spPr>
          <a:xfrm>
            <a:off x="5796000" y="5468760"/>
            <a:ext cx="3217680" cy="2271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6" descr=""/>
          <p:cNvPicPr/>
          <p:nvPr/>
        </p:nvPicPr>
        <p:blipFill>
          <a:blip r:embed="rId11"/>
          <a:stretch/>
        </p:blipFill>
        <p:spPr>
          <a:xfrm>
            <a:off x="6091200" y="5705640"/>
            <a:ext cx="271152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4" name="Object 2"/>
          <p:cNvGraphicFramePr/>
          <p:nvPr/>
        </p:nvGraphicFramePr>
        <p:xfrm>
          <a:off x="2411280" y="1989000"/>
          <a:ext cx="440064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989000"/>
                    <a:ext cx="440064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6" name="Object 3"/>
          <p:cNvGraphicFramePr/>
          <p:nvPr/>
        </p:nvGraphicFramePr>
        <p:xfrm>
          <a:off x="1619280" y="3068640"/>
          <a:ext cx="5616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3068640"/>
                    <a:ext cx="5616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8" name="TextBox 3"/>
          <p:cNvSpPr/>
          <p:nvPr/>
        </p:nvSpPr>
        <p:spPr>
          <a:xfrm>
            <a:off x="3203640" y="105264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нган (Mn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Box 4"/>
          <p:cNvSpPr/>
          <p:nvPr/>
        </p:nvSpPr>
        <p:spPr>
          <a:xfrm>
            <a:off x="4611600" y="23702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99"/>
                </a:solidFill>
                <a:latin typeface="Times New Roman"/>
                <a:ea typeface="Times New Roman"/>
              </a:rPr>
              <a:t>ружичаст 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Box 6"/>
          <p:cNvSpPr/>
          <p:nvPr/>
        </p:nvSpPr>
        <p:spPr>
          <a:xfrm>
            <a:off x="4788000" y="46544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створ љубичасте бо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1" name="Object 5"/>
          <p:cNvGraphicFramePr/>
          <p:nvPr/>
        </p:nvGraphicFramePr>
        <p:xfrm>
          <a:off x="177840" y="4365720"/>
          <a:ext cx="8786880" cy="3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7840" y="4365720"/>
                    <a:ext cx="878688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3" name="Object 6"/>
          <p:cNvGraphicFramePr/>
          <p:nvPr/>
        </p:nvGraphicFramePr>
        <p:xfrm>
          <a:off x="2195640" y="5084640"/>
          <a:ext cx="1942920" cy="698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95640" y="5084640"/>
                    <a:ext cx="194292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TextBox 1"/>
          <p:cNvSpPr/>
          <p:nvPr/>
        </p:nvSpPr>
        <p:spPr>
          <a:xfrm>
            <a:off x="3203640" y="126828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инк (Zn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6" name="Object 2"/>
          <p:cNvGraphicFramePr/>
          <p:nvPr/>
        </p:nvGraphicFramePr>
        <p:xfrm>
          <a:off x="2050920" y="2082960"/>
          <a:ext cx="4746600" cy="55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2082960"/>
                    <a:ext cx="474660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8" name="Object 3"/>
          <p:cNvGraphicFramePr/>
          <p:nvPr/>
        </p:nvGraphicFramePr>
        <p:xfrm>
          <a:off x="900000" y="3141720"/>
          <a:ext cx="6210360" cy="35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3141720"/>
                    <a:ext cx="621036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0" name="TextBox 4"/>
          <p:cNvSpPr/>
          <p:nvPr/>
        </p:nvSpPr>
        <p:spPr>
          <a:xfrm>
            <a:off x="4680000" y="25210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 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1" name="Object 4"/>
          <p:cNvGraphicFramePr/>
          <p:nvPr/>
        </p:nvGraphicFramePr>
        <p:xfrm>
          <a:off x="900000" y="3803760"/>
          <a:ext cx="7201080" cy="34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7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0000" y="3803760"/>
                    <a:ext cx="72010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3" name="Object 5"/>
          <p:cNvGraphicFramePr/>
          <p:nvPr/>
        </p:nvGraphicFramePr>
        <p:xfrm>
          <a:off x="900000" y="4365720"/>
          <a:ext cx="6048360" cy="3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0000" y="4365720"/>
                    <a:ext cx="604836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5" name="Object 6"/>
          <p:cNvGraphicFramePr/>
          <p:nvPr/>
        </p:nvGraphicFramePr>
        <p:xfrm>
          <a:off x="250920" y="5157720"/>
          <a:ext cx="8427960" cy="574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7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0920" y="5157720"/>
                    <a:ext cx="842796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7" name="Object 7"/>
          <p:cNvGraphicFramePr/>
          <p:nvPr/>
        </p:nvGraphicFramePr>
        <p:xfrm>
          <a:off x="395280" y="6021360"/>
          <a:ext cx="4968720" cy="361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78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5280" y="6021360"/>
                    <a:ext cx="496872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9" name="TextBox 9"/>
          <p:cNvSpPr/>
          <p:nvPr/>
        </p:nvSpPr>
        <p:spPr>
          <a:xfrm>
            <a:off x="5651640" y="580536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imes New Roman"/>
                <a:ea typeface="Times New Roman"/>
              </a:rPr>
              <a:t>раствор ружичасте бо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Straight Connector 11"/>
          <p:cNvSpPr/>
          <p:nvPr/>
        </p:nvSpPr>
        <p:spPr>
          <a:xfrm>
            <a:off x="1979640" y="2746440"/>
            <a:ext cx="46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Straight Connector 16"/>
          <p:cNvSpPr/>
          <p:nvPr/>
        </p:nvSpPr>
        <p:spPr>
          <a:xfrm>
            <a:off x="2771640" y="3500280"/>
            <a:ext cx="250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2" name="Straight Arrow Connector 18"/>
          <p:cNvCxnSpPr/>
          <p:nvPr/>
        </p:nvCxnSpPr>
        <p:spPr>
          <a:xfrm>
            <a:off x="3965040" y="3509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3" name="Straight Connector 26"/>
          <p:cNvSpPr/>
          <p:nvPr/>
        </p:nvSpPr>
        <p:spPr>
          <a:xfrm flipV="1">
            <a:off x="4067280" y="4581000"/>
            <a:ext cx="14349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Straight Connector 42"/>
          <p:cNvSpPr/>
          <p:nvPr/>
        </p:nvSpPr>
        <p:spPr>
          <a:xfrm>
            <a:off x="1258920" y="1773360"/>
            <a:ext cx="554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Box 1"/>
          <p:cNvSpPr/>
          <p:nvPr/>
        </p:nvSpPr>
        <p:spPr>
          <a:xfrm>
            <a:off x="1857240" y="874800"/>
            <a:ext cx="49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тјони V аналитичке гру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6" name="Straight Arrow Connector 44"/>
          <p:cNvCxnSpPr/>
          <p:nvPr/>
        </p:nvCxnSpPr>
        <p:spPr>
          <a:xfrm>
            <a:off x="3995280" y="177300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7" name="Rectangle 56"/>
          <p:cNvSpPr/>
          <p:nvPr/>
        </p:nvSpPr>
        <p:spPr>
          <a:xfrm>
            <a:off x="3924360" y="3506760"/>
            <a:ext cx="196200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K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NaA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8" name="Straight Arrow Connector 64"/>
          <p:cNvCxnSpPr/>
          <p:nvPr/>
        </p:nvCxnSpPr>
        <p:spPr>
          <a:xfrm>
            <a:off x="4140000" y="4868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9" name="Straight Connector 67"/>
          <p:cNvSpPr/>
          <p:nvPr/>
        </p:nvSpPr>
        <p:spPr>
          <a:xfrm>
            <a:off x="4716360" y="4581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0" name="Straight Arrow Connector 69"/>
          <p:cNvCxnSpPr/>
          <p:nvPr/>
        </p:nvCxnSpPr>
        <p:spPr>
          <a:xfrm>
            <a:off x="5579640" y="4869000"/>
            <a:ext cx="1080" cy="32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91" name="Rectangle 77"/>
          <p:cNvSpPr/>
          <p:nvPr/>
        </p:nvSpPr>
        <p:spPr>
          <a:xfrm>
            <a:off x="6809760" y="6489720"/>
            <a:ext cx="2282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пламен  наранџасте бој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Box 1"/>
          <p:cNvSpPr/>
          <p:nvPr/>
        </p:nvSpPr>
        <p:spPr>
          <a:xfrm>
            <a:off x="3240000" y="14241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55"/>
          <p:cNvSpPr/>
          <p:nvPr/>
        </p:nvSpPr>
        <p:spPr>
          <a:xfrm>
            <a:off x="4052880" y="1773360"/>
            <a:ext cx="240516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(N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N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N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4" name="Group 66"/>
          <p:cNvGrpSpPr/>
          <p:nvPr/>
        </p:nvGrpSpPr>
        <p:grpSpPr>
          <a:xfrm>
            <a:off x="2627280" y="2133720"/>
            <a:ext cx="3097080" cy="633960"/>
            <a:chOff x="2627280" y="2133720"/>
            <a:chExt cx="3097080" cy="633960"/>
          </a:xfrm>
        </p:grpSpPr>
        <p:sp>
          <p:nvSpPr>
            <p:cNvPr id="995" name="Rectangle 1"/>
            <p:cNvSpPr/>
            <p:nvPr/>
          </p:nvSpPr>
          <p:spPr>
            <a:xfrm>
              <a:off x="2627280" y="2133720"/>
              <a:ext cx="3097080" cy="63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C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rC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C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ео             бео              бео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6" name="Straight Arrow Connector 59"/>
            <p:cNvCxnSpPr/>
            <p:nvPr/>
          </p:nvCxnSpPr>
          <p:spPr>
            <a:xfrm>
              <a:off x="3490560" y="2157120"/>
              <a:ext cx="108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97" name="Straight Arrow Connector 60"/>
            <p:cNvCxnSpPr/>
            <p:nvPr/>
          </p:nvCxnSpPr>
          <p:spPr>
            <a:xfrm>
              <a:off x="4426920" y="2157120"/>
              <a:ext cx="108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98" name="Straight Arrow Connector 62"/>
            <p:cNvCxnSpPr/>
            <p:nvPr/>
          </p:nvCxnSpPr>
          <p:spPr>
            <a:xfrm>
              <a:off x="5363640" y="2157120"/>
              <a:ext cx="108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999" name="TextBox 68"/>
          <p:cNvSpPr/>
          <p:nvPr/>
        </p:nvSpPr>
        <p:spPr>
          <a:xfrm>
            <a:off x="4067280" y="2805120"/>
            <a:ext cx="1152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HA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58"/>
          <p:cNvSpPr/>
          <p:nvPr/>
        </p:nvSpPr>
        <p:spPr>
          <a:xfrm>
            <a:off x="2710440" y="4221000"/>
            <a:ext cx="959400" cy="6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r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1" name="Straight Arrow Connector 66"/>
          <p:cNvCxnSpPr/>
          <p:nvPr/>
        </p:nvCxnSpPr>
        <p:spPr>
          <a:xfrm>
            <a:off x="3995280" y="2733480"/>
            <a:ext cx="1080" cy="50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02" name="TextBox 1"/>
          <p:cNvSpPr/>
          <p:nvPr/>
        </p:nvSpPr>
        <p:spPr>
          <a:xfrm>
            <a:off x="3203640" y="31654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Straight Connector 75"/>
          <p:cNvSpPr/>
          <p:nvPr/>
        </p:nvSpPr>
        <p:spPr>
          <a:xfrm flipV="1">
            <a:off x="3208320" y="3924000"/>
            <a:ext cx="14349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4" name="Straight Arrow Connector 84"/>
          <p:cNvCxnSpPr/>
          <p:nvPr/>
        </p:nvCxnSpPr>
        <p:spPr>
          <a:xfrm>
            <a:off x="3203280" y="393372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05" name="Straight Arrow Connector 86"/>
          <p:cNvCxnSpPr/>
          <p:nvPr/>
        </p:nvCxnSpPr>
        <p:spPr>
          <a:xfrm>
            <a:off x="4642920" y="393372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06" name="Rectangle 87"/>
          <p:cNvSpPr/>
          <p:nvPr/>
        </p:nvSpPr>
        <p:spPr>
          <a:xfrm>
            <a:off x="4165920" y="421164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7" name="Picture 6" descr="C:\Users\Maca\Desktop\ba.jpg"/>
          <p:cNvPicPr/>
          <p:nvPr/>
        </p:nvPicPr>
        <p:blipFill>
          <a:blip r:embed="rId1"/>
          <a:srcRect l="88713" t="21546" r="1191" b="6988"/>
          <a:stretch/>
        </p:blipFill>
        <p:spPr>
          <a:xfrm>
            <a:off x="2987640" y="5229360"/>
            <a:ext cx="432000" cy="660240"/>
          </a:xfrm>
          <a:prstGeom prst="rect">
            <a:avLst/>
          </a:prstGeom>
          <a:ln w="0">
            <a:noFill/>
          </a:ln>
        </p:spPr>
      </p:pic>
      <p:cxnSp>
        <p:nvCxnSpPr>
          <p:cNvPr id="1008" name="Straight Arrow Connector 96"/>
          <p:cNvCxnSpPr>
            <a:stCxn id="1000" idx="2"/>
          </p:cNvCxnSpPr>
          <p:nvPr/>
        </p:nvCxnSpPr>
        <p:spPr>
          <a:xfrm>
            <a:off x="3188880" y="4821120"/>
            <a:ext cx="11880" cy="26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09" name="TextBox 101"/>
          <p:cNvSpPr/>
          <p:nvPr/>
        </p:nvSpPr>
        <p:spPr>
          <a:xfrm>
            <a:off x="2627280" y="5950080"/>
            <a:ext cx="1152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</a:t>
            </a:r>
            <a:r>
              <a:rPr b="1" lang="en-US" sz="15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ламен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зелене бој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102"/>
          <p:cNvSpPr/>
          <p:nvPr/>
        </p:nvSpPr>
        <p:spPr>
          <a:xfrm>
            <a:off x="4715640" y="4581360"/>
            <a:ext cx="119196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(N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104"/>
          <p:cNvSpPr/>
          <p:nvPr/>
        </p:nvSpPr>
        <p:spPr>
          <a:xfrm>
            <a:off x="3860640" y="5157720"/>
            <a:ext cx="781200" cy="6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Straight Connector 105"/>
          <p:cNvSpPr/>
          <p:nvPr/>
        </p:nvSpPr>
        <p:spPr>
          <a:xfrm flipV="1">
            <a:off x="4145040" y="4882680"/>
            <a:ext cx="14349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3" name="Picture 6" descr="C:\Users\Maca\Desktop\ba.jpg"/>
          <p:cNvPicPr/>
          <p:nvPr/>
        </p:nvPicPr>
        <p:blipFill>
          <a:blip r:embed="rId2"/>
          <a:srcRect l="21178" t="13384" r="68495" b="6924"/>
          <a:stretch/>
        </p:blipFill>
        <p:spPr>
          <a:xfrm>
            <a:off x="4067280" y="5805360"/>
            <a:ext cx="360360" cy="720720"/>
          </a:xfrm>
          <a:prstGeom prst="rect">
            <a:avLst/>
          </a:prstGeom>
          <a:ln w="0">
            <a:noFill/>
          </a:ln>
        </p:spPr>
      </p:pic>
      <p:sp>
        <p:nvSpPr>
          <p:cNvPr id="1014" name="Rectangle 111"/>
          <p:cNvSpPr/>
          <p:nvPr/>
        </p:nvSpPr>
        <p:spPr>
          <a:xfrm>
            <a:off x="5337000" y="5157720"/>
            <a:ext cx="6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112"/>
          <p:cNvSpPr/>
          <p:nvPr/>
        </p:nvSpPr>
        <p:spPr>
          <a:xfrm>
            <a:off x="5580000" y="5516640"/>
            <a:ext cx="196236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(N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N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Straight Connector 114"/>
          <p:cNvSpPr/>
          <p:nvPr/>
        </p:nvSpPr>
        <p:spPr>
          <a:xfrm>
            <a:off x="5219640" y="551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7" name="Straight Arrow Connector 120"/>
          <p:cNvCxnSpPr/>
          <p:nvPr/>
        </p:nvCxnSpPr>
        <p:spPr>
          <a:xfrm>
            <a:off x="5579640" y="551664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18" name="TextBox 121"/>
          <p:cNvSpPr/>
          <p:nvPr/>
        </p:nvSpPr>
        <p:spPr>
          <a:xfrm>
            <a:off x="3419640" y="6534000"/>
            <a:ext cx="2304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en-US" sz="1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амен  црвене бој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Rectangle 122"/>
          <p:cNvSpPr/>
          <p:nvPr/>
        </p:nvSpPr>
        <p:spPr>
          <a:xfrm>
            <a:off x="5235120" y="5877000"/>
            <a:ext cx="994320" cy="6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0" name="Straight Arrow Connector 124"/>
          <p:cNvCxnSpPr/>
          <p:nvPr/>
        </p:nvCxnSpPr>
        <p:spPr>
          <a:xfrm>
            <a:off x="6516360" y="6165360"/>
            <a:ext cx="359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21" name="Picture 6" descr="C:\Users\Maca\Desktop\ba.jpg"/>
          <p:cNvPicPr/>
          <p:nvPr/>
        </p:nvPicPr>
        <p:blipFill>
          <a:blip r:embed="rId3"/>
          <a:srcRect l="37801" t="13384" r="52057" b="6924"/>
          <a:stretch/>
        </p:blipFill>
        <p:spPr>
          <a:xfrm>
            <a:off x="7596360" y="5661000"/>
            <a:ext cx="502920" cy="793800"/>
          </a:xfrm>
          <a:prstGeom prst="rect">
            <a:avLst/>
          </a:prstGeom>
          <a:ln w="0">
            <a:noFill/>
          </a:ln>
        </p:spPr>
      </p:pic>
      <p:sp>
        <p:nvSpPr>
          <p:cNvPr id="1022" name="Rectangle 3"/>
          <p:cNvSpPr/>
          <p:nvPr/>
        </p:nvSpPr>
        <p:spPr>
          <a:xfrm>
            <a:off x="5958000" y="1376280"/>
            <a:ext cx="320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таложни реаген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3" name="Object 2"/>
          <p:cNvGraphicFramePr/>
          <p:nvPr/>
        </p:nvGraphicFramePr>
        <p:xfrm>
          <a:off x="1547640" y="1916280"/>
          <a:ext cx="6010560" cy="50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916280"/>
                    <a:ext cx="6010560" cy="50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5" name="Object 3"/>
          <p:cNvGraphicFramePr/>
          <p:nvPr/>
        </p:nvGraphicFramePr>
        <p:xfrm>
          <a:off x="324000" y="2781360"/>
          <a:ext cx="828036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2781360"/>
                    <a:ext cx="828036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7" name="TextBox 3"/>
          <p:cNvSpPr/>
          <p:nvPr/>
        </p:nvSpPr>
        <p:spPr>
          <a:xfrm>
            <a:off x="4986360" y="225576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 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8" name="Object 4"/>
          <p:cNvGraphicFramePr/>
          <p:nvPr/>
        </p:nvGraphicFramePr>
        <p:xfrm>
          <a:off x="341280" y="3500280"/>
          <a:ext cx="7183440" cy="50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1280" y="3500280"/>
                    <a:ext cx="718344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0" name="TextBox 5"/>
          <p:cNvSpPr/>
          <p:nvPr/>
        </p:nvSpPr>
        <p:spPr>
          <a:xfrm>
            <a:off x="4267080" y="38448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жути 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1" name="Object 5"/>
          <p:cNvGraphicFramePr/>
          <p:nvPr/>
        </p:nvGraphicFramePr>
        <p:xfrm>
          <a:off x="396720" y="4653000"/>
          <a:ext cx="5904000" cy="35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6720" y="4653000"/>
                    <a:ext cx="590400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33" name="Picture 6" descr="C:\Users\Maca\Desktop\ba.jpg"/>
          <p:cNvPicPr/>
          <p:nvPr/>
        </p:nvPicPr>
        <p:blipFill>
          <a:blip r:embed="rId9"/>
          <a:srcRect l="88713" t="21546" r="1191" b="6988"/>
          <a:stretch/>
        </p:blipFill>
        <p:spPr>
          <a:xfrm>
            <a:off x="7380360" y="4076640"/>
            <a:ext cx="708120" cy="238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4" name="Object 7"/>
          <p:cNvGraphicFramePr/>
          <p:nvPr/>
        </p:nvGraphicFramePr>
        <p:xfrm>
          <a:off x="395280" y="5516640"/>
          <a:ext cx="5275440" cy="576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35" name="Object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5280" y="5516640"/>
                    <a:ext cx="52754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6" name="TextBox 9"/>
          <p:cNvSpPr/>
          <p:nvPr/>
        </p:nvSpPr>
        <p:spPr>
          <a:xfrm>
            <a:off x="3422520" y="59929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 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Box 10"/>
          <p:cNvSpPr/>
          <p:nvPr/>
        </p:nvSpPr>
        <p:spPr>
          <a:xfrm>
            <a:off x="3203640" y="119700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ријум (Ba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TextBox 1"/>
          <p:cNvSpPr/>
          <p:nvPr/>
        </p:nvSpPr>
        <p:spPr>
          <a:xfrm>
            <a:off x="2916360" y="112536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онцијум (Sr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9" name="Object 2"/>
          <p:cNvGraphicFramePr/>
          <p:nvPr/>
        </p:nvGraphicFramePr>
        <p:xfrm>
          <a:off x="1476360" y="1844640"/>
          <a:ext cx="595800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844640"/>
                    <a:ext cx="59580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1" name="Object 3"/>
          <p:cNvGraphicFramePr/>
          <p:nvPr/>
        </p:nvGraphicFramePr>
        <p:xfrm>
          <a:off x="250920" y="3139920"/>
          <a:ext cx="867888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3139920"/>
                    <a:ext cx="86788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3" name="TextBox 4"/>
          <p:cNvSpPr/>
          <p:nvPr/>
        </p:nvSpPr>
        <p:spPr>
          <a:xfrm>
            <a:off x="4932360" y="22273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 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4" name="Object 4"/>
          <p:cNvGraphicFramePr/>
          <p:nvPr/>
        </p:nvGraphicFramePr>
        <p:xfrm>
          <a:off x="395280" y="3995640"/>
          <a:ext cx="7237440" cy="54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280" y="3995640"/>
                    <a:ext cx="723744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6" name="TextBox 6"/>
          <p:cNvSpPr/>
          <p:nvPr/>
        </p:nvSpPr>
        <p:spPr>
          <a:xfrm>
            <a:off x="4416480" y="43545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 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7" name="Object 5"/>
          <p:cNvGraphicFramePr/>
          <p:nvPr/>
        </p:nvGraphicFramePr>
        <p:xfrm>
          <a:off x="395280" y="5084640"/>
          <a:ext cx="5191200" cy="36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5280" y="5084640"/>
                    <a:ext cx="51912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9" name="Picture 6" descr="C:\Users\Maca\Desktop\ba.jpg"/>
          <p:cNvPicPr/>
          <p:nvPr/>
        </p:nvPicPr>
        <p:blipFill>
          <a:blip r:embed="rId9"/>
          <a:srcRect l="21178" t="13384" r="68495" b="6924"/>
          <a:stretch/>
        </p:blipFill>
        <p:spPr>
          <a:xfrm>
            <a:off x="8028000" y="3933720"/>
            <a:ext cx="7239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0" name="Object 2"/>
          <p:cNvGraphicFramePr/>
          <p:nvPr/>
        </p:nvGraphicFramePr>
        <p:xfrm>
          <a:off x="1619280" y="1916280"/>
          <a:ext cx="602604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916280"/>
                    <a:ext cx="60260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2" name="TextBox 2"/>
          <p:cNvSpPr/>
          <p:nvPr/>
        </p:nvSpPr>
        <p:spPr>
          <a:xfrm>
            <a:off x="2895480" y="101448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лцијум (Ca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Box 3"/>
          <p:cNvSpPr/>
          <p:nvPr/>
        </p:nvSpPr>
        <p:spPr>
          <a:xfrm>
            <a:off x="5019840" y="232236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 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Object 3"/>
          <p:cNvGraphicFramePr/>
          <p:nvPr/>
        </p:nvGraphicFramePr>
        <p:xfrm>
          <a:off x="179280" y="2924280"/>
          <a:ext cx="875196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2924280"/>
                    <a:ext cx="87519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6" name="Object 4"/>
          <p:cNvGraphicFramePr/>
          <p:nvPr/>
        </p:nvGraphicFramePr>
        <p:xfrm>
          <a:off x="324000" y="3645000"/>
          <a:ext cx="8032680" cy="57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5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3645000"/>
                    <a:ext cx="803268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8" name="TextBox 6"/>
          <p:cNvSpPr/>
          <p:nvPr/>
        </p:nvSpPr>
        <p:spPr>
          <a:xfrm>
            <a:off x="4743360" y="40924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 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9" name="Object 5"/>
          <p:cNvGraphicFramePr/>
          <p:nvPr/>
        </p:nvGraphicFramePr>
        <p:xfrm>
          <a:off x="274680" y="4869000"/>
          <a:ext cx="5737320" cy="36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6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680" y="4869000"/>
                    <a:ext cx="57373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1" name="Picture 6" descr="C:\Users\Maca\Desktop\ba.jpg"/>
          <p:cNvPicPr/>
          <p:nvPr/>
        </p:nvPicPr>
        <p:blipFill>
          <a:blip r:embed="rId9"/>
          <a:srcRect l="37801" t="13384" r="52057" b="6924"/>
          <a:stretch/>
        </p:blipFill>
        <p:spPr>
          <a:xfrm>
            <a:off x="8101080" y="4076640"/>
            <a:ext cx="7110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TextBox 1"/>
          <p:cNvSpPr/>
          <p:nvPr/>
        </p:nvSpPr>
        <p:spPr>
          <a:xfrm>
            <a:off x="3059280" y="1809720"/>
            <a:ext cx="2808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Straight Connector 3"/>
          <p:cNvSpPr/>
          <p:nvPr/>
        </p:nvSpPr>
        <p:spPr>
          <a:xfrm>
            <a:off x="2987640" y="224172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Straight Connector 12"/>
          <p:cNvSpPr/>
          <p:nvPr/>
        </p:nvSpPr>
        <p:spPr>
          <a:xfrm>
            <a:off x="4211640" y="224172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Straight Connector 14"/>
          <p:cNvSpPr/>
          <p:nvPr/>
        </p:nvSpPr>
        <p:spPr>
          <a:xfrm>
            <a:off x="1332000" y="2530440"/>
            <a:ext cx="554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6" name="Straight Arrow Connector 16"/>
          <p:cNvCxnSpPr/>
          <p:nvPr/>
        </p:nvCxnSpPr>
        <p:spPr>
          <a:xfrm>
            <a:off x="1331640" y="2530440"/>
            <a:ext cx="1080" cy="57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7" name="Straight Arrow Connector 17"/>
          <p:cNvCxnSpPr/>
          <p:nvPr/>
        </p:nvCxnSpPr>
        <p:spPr>
          <a:xfrm>
            <a:off x="2916000" y="2530440"/>
            <a:ext cx="1080" cy="57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8" name="Straight Arrow Connector 18"/>
          <p:cNvCxnSpPr/>
          <p:nvPr/>
        </p:nvCxnSpPr>
        <p:spPr>
          <a:xfrm>
            <a:off x="5148000" y="2530440"/>
            <a:ext cx="1080" cy="57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9" name="Straight Arrow Connector 19"/>
          <p:cNvCxnSpPr/>
          <p:nvPr/>
        </p:nvCxnSpPr>
        <p:spPr>
          <a:xfrm>
            <a:off x="6875280" y="2530440"/>
            <a:ext cx="1080" cy="57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70" name="Rectangle 20"/>
          <p:cNvSpPr/>
          <p:nvPr/>
        </p:nvSpPr>
        <p:spPr>
          <a:xfrm>
            <a:off x="990000" y="3105000"/>
            <a:ext cx="75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21"/>
          <p:cNvSpPr/>
          <p:nvPr/>
        </p:nvSpPr>
        <p:spPr>
          <a:xfrm>
            <a:off x="2638800" y="3105000"/>
            <a:ext cx="61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22"/>
          <p:cNvSpPr/>
          <p:nvPr/>
        </p:nvSpPr>
        <p:spPr>
          <a:xfrm>
            <a:off x="4943520" y="3105000"/>
            <a:ext cx="48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23"/>
          <p:cNvSpPr/>
          <p:nvPr/>
        </p:nvSpPr>
        <p:spPr>
          <a:xfrm>
            <a:off x="6590160" y="3105000"/>
            <a:ext cx="7704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Box 24"/>
          <p:cNvSpPr/>
          <p:nvPr/>
        </p:nvSpPr>
        <p:spPr>
          <a:xfrm>
            <a:off x="6948360" y="3610080"/>
            <a:ext cx="158436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gI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slerov reage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traight Connector 26"/>
          <p:cNvSpPr/>
          <p:nvPr/>
        </p:nvSpPr>
        <p:spPr>
          <a:xfrm>
            <a:off x="6443640" y="353844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6" name="Straight Arrow Connector 28"/>
          <p:cNvCxnSpPr/>
          <p:nvPr/>
        </p:nvCxnSpPr>
        <p:spPr>
          <a:xfrm flipH="1">
            <a:off x="6871680" y="3538080"/>
            <a:ext cx="3960" cy="68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77" name="Straight Connector 30"/>
          <p:cNvSpPr/>
          <p:nvPr/>
        </p:nvSpPr>
        <p:spPr>
          <a:xfrm>
            <a:off x="4716360" y="35384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8" name="Straight Arrow Connector 31"/>
          <p:cNvCxnSpPr/>
          <p:nvPr/>
        </p:nvCxnSpPr>
        <p:spPr>
          <a:xfrm flipH="1">
            <a:off x="5142960" y="3538080"/>
            <a:ext cx="5400" cy="68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79" name="Straight Connector 32"/>
          <p:cNvSpPr/>
          <p:nvPr/>
        </p:nvSpPr>
        <p:spPr>
          <a:xfrm>
            <a:off x="2484360" y="35384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0" name="Straight Arrow Connector 33"/>
          <p:cNvCxnSpPr/>
          <p:nvPr/>
        </p:nvCxnSpPr>
        <p:spPr>
          <a:xfrm flipH="1">
            <a:off x="2910960" y="3538080"/>
            <a:ext cx="5760" cy="68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1" name="Straight Connector 34"/>
          <p:cNvSpPr/>
          <p:nvPr/>
        </p:nvSpPr>
        <p:spPr>
          <a:xfrm>
            <a:off x="900000" y="35384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2" name="Straight Arrow Connector 35"/>
          <p:cNvCxnSpPr/>
          <p:nvPr/>
        </p:nvCxnSpPr>
        <p:spPr>
          <a:xfrm flipH="1">
            <a:off x="1326600" y="3538080"/>
            <a:ext cx="5400" cy="68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3" name="Rectangle 36"/>
          <p:cNvSpPr/>
          <p:nvPr/>
        </p:nvSpPr>
        <p:spPr>
          <a:xfrm>
            <a:off x="1372680" y="3681360"/>
            <a:ext cx="117540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PO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37"/>
          <p:cNvSpPr/>
          <p:nvPr/>
        </p:nvSpPr>
        <p:spPr>
          <a:xfrm>
            <a:off x="349200" y="4402080"/>
            <a:ext cx="199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Box 9"/>
          <p:cNvSpPr/>
          <p:nvPr/>
        </p:nvSpPr>
        <p:spPr>
          <a:xfrm>
            <a:off x="719280" y="4689360"/>
            <a:ext cx="154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 тало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Box 3"/>
          <p:cNvSpPr/>
          <p:nvPr/>
        </p:nvSpPr>
        <p:spPr>
          <a:xfrm>
            <a:off x="4643280" y="4762440"/>
            <a:ext cx="151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ти тало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40"/>
          <p:cNvSpPr/>
          <p:nvPr/>
        </p:nvSpPr>
        <p:spPr>
          <a:xfrm>
            <a:off x="5240520" y="3681360"/>
            <a:ext cx="125496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o(NO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Rectangle 41"/>
          <p:cNvSpPr/>
          <p:nvPr/>
        </p:nvSpPr>
        <p:spPr>
          <a:xfrm>
            <a:off x="4379760" y="4402080"/>
            <a:ext cx="168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[Co(N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9" name="Picture 3" descr="C:\Users\Maca\Desktop\na.jpg"/>
          <p:cNvPicPr/>
          <p:nvPr/>
        </p:nvPicPr>
        <p:blipFill>
          <a:blip r:embed="rId1"/>
          <a:srcRect l="20079" t="0" r="64181" b="57882"/>
          <a:stretch/>
        </p:blipFill>
        <p:spPr>
          <a:xfrm>
            <a:off x="2700360" y="4402080"/>
            <a:ext cx="503280" cy="990720"/>
          </a:xfrm>
          <a:prstGeom prst="rect">
            <a:avLst/>
          </a:prstGeom>
          <a:ln w="0">
            <a:noFill/>
          </a:ln>
        </p:spPr>
      </p:pic>
      <p:sp>
        <p:nvSpPr>
          <p:cNvPr id="1090" name="TextBox 8"/>
          <p:cNvSpPr/>
          <p:nvPr/>
        </p:nvSpPr>
        <p:spPr>
          <a:xfrm>
            <a:off x="1908000" y="5554800"/>
            <a:ext cx="2303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</a:t>
            </a:r>
            <a:r>
              <a:rPr b="1" lang="en-US" sz="1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боји пламен жут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44"/>
          <p:cNvSpPr/>
          <p:nvPr/>
        </p:nvSpPr>
        <p:spPr>
          <a:xfrm>
            <a:off x="6393240" y="4402080"/>
            <a:ext cx="125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Rectangle 45"/>
          <p:cNvSpPr/>
          <p:nvPr/>
        </p:nvSpPr>
        <p:spPr>
          <a:xfrm>
            <a:off x="6379920" y="476244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жуто-сме</a:t>
            </a:r>
            <a:r>
              <a:rPr b="1" lang="sr-RS" sz="18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ђ</a:t>
            </a:r>
            <a:r>
              <a:rPr b="1" lang="en-US" sz="18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3" name="Picture 4" descr="C:\Users\Maca\Desktop\na.jpg"/>
          <p:cNvPicPr/>
          <p:nvPr/>
        </p:nvPicPr>
        <p:blipFill>
          <a:blip r:embed="rId2"/>
          <a:srcRect l="40551" t="0" r="43701" b="59457"/>
          <a:stretch/>
        </p:blipFill>
        <p:spPr>
          <a:xfrm>
            <a:off x="4932360" y="5194440"/>
            <a:ext cx="576360" cy="928440"/>
          </a:xfrm>
          <a:prstGeom prst="rect">
            <a:avLst/>
          </a:prstGeom>
          <a:ln w="0">
            <a:noFill/>
          </a:ln>
        </p:spPr>
      </p:pic>
      <p:sp>
        <p:nvSpPr>
          <p:cNvPr id="1094" name="TextBox 7"/>
          <p:cNvSpPr/>
          <p:nvPr/>
        </p:nvSpPr>
        <p:spPr>
          <a:xfrm>
            <a:off x="3995640" y="6202440"/>
            <a:ext cx="2592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1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боји пламен љубичаст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Rectangle 2"/>
          <p:cNvSpPr/>
          <p:nvPr/>
        </p:nvSpPr>
        <p:spPr>
          <a:xfrm>
            <a:off x="2281320" y="1052640"/>
            <a:ext cx="49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тјони VI аналитичке гру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1"/>
          <p:cNvSpPr/>
          <p:nvPr/>
        </p:nvSpPr>
        <p:spPr>
          <a:xfrm>
            <a:off x="6372360" y="20606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 групног реаген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TextBox 1"/>
          <p:cNvSpPr/>
          <p:nvPr/>
        </p:nvSpPr>
        <p:spPr>
          <a:xfrm>
            <a:off x="1979640" y="112536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стемска анализа катј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2"/>
          <p:cNvSpPr/>
          <p:nvPr/>
        </p:nvSpPr>
        <p:spPr>
          <a:xfrm>
            <a:off x="179280" y="1844640"/>
            <a:ext cx="8713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ска квалитативна анализа се примењује за раздвајање јона и уклањање сметњи при њиховом појединачном доказивању и изводи се тако што се катјони и анјони узорка сукцесивним таложењем групним реагенсима раздвајају у аналитичке групе, а затим идентификују појединачни јон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3"/>
          <p:cNvSpPr/>
          <p:nvPr/>
        </p:nvSpPr>
        <p:spPr>
          <a:xfrm>
            <a:off x="179280" y="4005360"/>
            <a:ext cx="8640720" cy="18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и више метода системске анализе од којих је најпознатија и са највећом применом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ген-сулфидна метод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оји се у раздвајању катјона у шест аналитичких група таложењем хлоридом, сулфидом (у киселој и амонијачној средини), амонијаком и карбонат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TextBox 1"/>
          <p:cNvSpPr/>
          <p:nvPr/>
        </p:nvSpPr>
        <p:spPr>
          <a:xfrm>
            <a:off x="2592360" y="1184400"/>
            <a:ext cx="395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монијум јон (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8" name="Object 2"/>
          <p:cNvGraphicFramePr/>
          <p:nvPr/>
        </p:nvGraphicFramePr>
        <p:xfrm>
          <a:off x="1974960" y="2154240"/>
          <a:ext cx="494496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4960" y="2154240"/>
                    <a:ext cx="49449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0" name="TextBox 4"/>
          <p:cNvSpPr/>
          <p:nvPr/>
        </p:nvSpPr>
        <p:spPr>
          <a:xfrm>
            <a:off x="1517760" y="4883040"/>
            <a:ext cx="298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sler-oв реаген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лкални раствор жива(II)-јодид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extBox 5"/>
          <p:cNvSpPr/>
          <p:nvPr/>
        </p:nvSpPr>
        <p:spPr>
          <a:xfrm>
            <a:off x="5219640" y="4759200"/>
            <a:ext cx="28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жути раствор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жуто-сме</a:t>
            </a:r>
            <a:r>
              <a:rPr b="1" lang="sr-RS" sz="18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ђ</a:t>
            </a:r>
            <a:r>
              <a:rPr b="1" lang="en-US" sz="18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и 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виси од концентрације амонија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Box 1"/>
          <p:cNvSpPr/>
          <p:nvPr/>
        </p:nvSpPr>
        <p:spPr>
          <a:xfrm>
            <a:off x="320400" y="2786040"/>
            <a:ext cx="7727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лобођени амонијак се може доказа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ирис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мус хартија држана изнад епрувете мења боју из црвене у </a:t>
            </a:r>
            <a:r>
              <a:rPr b="0" lang="sr-R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лаву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3" name="Picture 7" descr=""/>
          <p:cNvPicPr/>
          <p:nvPr/>
        </p:nvPicPr>
        <p:blipFill>
          <a:blip r:embed="rId3"/>
          <a:stretch/>
        </p:blipFill>
        <p:spPr>
          <a:xfrm>
            <a:off x="863640" y="4365720"/>
            <a:ext cx="741672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TextBox 8"/>
          <p:cNvSpPr/>
          <p:nvPr/>
        </p:nvSpPr>
        <p:spPr>
          <a:xfrm>
            <a:off x="2859120" y="1197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гнезијум (Mg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Box 9"/>
          <p:cNvSpPr/>
          <p:nvPr/>
        </p:nvSpPr>
        <p:spPr>
          <a:xfrm>
            <a:off x="5724360" y="421812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 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Box 4"/>
          <p:cNvSpPr/>
          <p:nvPr/>
        </p:nvSpPr>
        <p:spPr>
          <a:xfrm>
            <a:off x="141120" y="2292480"/>
            <a:ext cx="8893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незијум је сврстан у VI аналитичку групу јер се не таложи се са (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Box 5"/>
          <p:cNvSpPr/>
          <p:nvPr/>
        </p:nvSpPr>
        <p:spPr>
          <a:xfrm>
            <a:off x="179280" y="3770280"/>
            <a:ext cx="882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(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6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→ Mg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↓ + 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8" name="Object 2"/>
          <p:cNvGraphicFramePr/>
          <p:nvPr/>
        </p:nvGraphicFramePr>
        <p:xfrm>
          <a:off x="179280" y="1916280"/>
          <a:ext cx="8785440" cy="49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16280"/>
                    <a:ext cx="878544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0" name="TextBox 2"/>
          <p:cNvSpPr/>
          <p:nvPr/>
        </p:nvSpPr>
        <p:spPr>
          <a:xfrm>
            <a:off x="3240000" y="113976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лијум (K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TextBox 3"/>
          <p:cNvSpPr/>
          <p:nvPr/>
        </p:nvSpPr>
        <p:spPr>
          <a:xfrm>
            <a:off x="5342040" y="24098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ти та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Box 4"/>
          <p:cNvSpPr/>
          <p:nvPr/>
        </p:nvSpPr>
        <p:spPr>
          <a:xfrm>
            <a:off x="324000" y="340200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тријум (Na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3" name="Picture 3" descr="C:\Users\Maca\Desktop\na.jpg"/>
          <p:cNvPicPr/>
          <p:nvPr/>
        </p:nvPicPr>
        <p:blipFill>
          <a:blip r:embed="rId3"/>
          <a:srcRect l="20079" t="0" r="64181" b="57882"/>
          <a:stretch/>
        </p:blipFill>
        <p:spPr>
          <a:xfrm>
            <a:off x="468360" y="4221000"/>
            <a:ext cx="720720" cy="192744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4" descr="C:\Users\Maca\Desktop\na.jpg"/>
          <p:cNvPicPr/>
          <p:nvPr/>
        </p:nvPicPr>
        <p:blipFill>
          <a:blip r:embed="rId4"/>
          <a:srcRect l="40551" t="0" r="43701" b="59457"/>
          <a:stretch/>
        </p:blipFill>
        <p:spPr>
          <a:xfrm>
            <a:off x="7596360" y="4005360"/>
            <a:ext cx="718920" cy="1854000"/>
          </a:xfrm>
          <a:prstGeom prst="rect">
            <a:avLst/>
          </a:prstGeom>
          <a:ln w="0">
            <a:noFill/>
          </a:ln>
        </p:spPr>
      </p:pic>
      <p:sp>
        <p:nvSpPr>
          <p:cNvPr id="1115" name="TextBox 7"/>
          <p:cNvSpPr/>
          <p:nvPr/>
        </p:nvSpPr>
        <p:spPr>
          <a:xfrm>
            <a:off x="4859280" y="321300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боји пламен љубича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TextBox 8"/>
          <p:cNvSpPr/>
          <p:nvPr/>
        </p:nvSpPr>
        <p:spPr>
          <a:xfrm>
            <a:off x="1332000" y="5445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боји пламен жу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/>
          </p:nvPr>
        </p:nvSpPr>
        <p:spPr>
          <a:xfrm>
            <a:off x="182520" y="1988640"/>
            <a:ext cx="84931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јони су негативно наелектрисани јони, односно негативно наелектрисани атоми или групе атома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8" name="TextBox 5"/>
          <p:cNvSpPr/>
          <p:nvPr/>
        </p:nvSpPr>
        <p:spPr>
          <a:xfrm>
            <a:off x="182520" y="2924280"/>
            <a:ext cx="8569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азлику од катјона, анјони приликом одвајања не утичу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један на друг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доказивање анјона припрема се содни екстракт (уклањају се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катјон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нати и ацетати се доказују директно из анализ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Rectangle 7"/>
          <p:cNvSpPr/>
          <p:nvPr/>
        </p:nvSpPr>
        <p:spPr>
          <a:xfrm>
            <a:off x="2642400" y="1170000"/>
            <a:ext cx="33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казивање анј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Rectangle 1"/>
          <p:cNvSpPr/>
          <p:nvPr/>
        </p:nvSpPr>
        <p:spPr>
          <a:xfrm>
            <a:off x="182520" y="5157720"/>
            <a:ext cx="849312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лањање катјона врши се таложењем из испитиваног раствора уз помоћ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ни екстракт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натријум-карбонатни екстрак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2"/>
          <p:cNvSpPr/>
          <p:nvPr/>
        </p:nvSpPr>
        <p:spPr>
          <a:xfrm>
            <a:off x="182520" y="1484280"/>
            <a:ext cx="8496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аствор анализе, заједно са талогом, дода се чврст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кува се на воденом купатилу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 талогу заостају катјон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налитичке групе 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, као нерастворни карбонати и хидроксид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твор (содни екстракт) садржи 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ј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е чије су соли растворне у  води или разблаженим киселина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1"/>
          <p:cNvSpPr/>
          <p:nvPr/>
        </p:nvSpPr>
        <p:spPr>
          <a:xfrm>
            <a:off x="182520" y="4149720"/>
            <a:ext cx="8496360" cy="19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јони се испитују из раствора содног екстракта. Део раствора се закисели сирћетном киселином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остатак раствора азотном киселином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l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испитивање сваког анјона увек се узима нова запремина содног екстрак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Line 4"/>
          <p:cNvSpPr/>
          <p:nvPr/>
        </p:nvSpPr>
        <p:spPr>
          <a:xfrm>
            <a:off x="4265640" y="41972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5"/>
          <p:cNvSpPr/>
          <p:nvPr/>
        </p:nvSpPr>
        <p:spPr>
          <a:xfrm flipH="1">
            <a:off x="4265280" y="434196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ectangle 4"/>
          <p:cNvSpPr/>
          <p:nvPr/>
        </p:nvSpPr>
        <p:spPr>
          <a:xfrm>
            <a:off x="2908080" y="1268280"/>
            <a:ext cx="3486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улфатни јон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</a:t>
            </a:r>
            <a:r>
              <a:rPr b="1" lang="sr-Latn-CS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1" lang="sr-Latn-C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-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182520" y="242712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и баријума граде са сулфатима слабо растворљиви бели кристални талог баријум-сулфата, који је нерастворан у киселинама (сем у концентрованој сумпорној киселини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6"/>
          <p:cNvSpPr/>
          <p:nvPr/>
        </p:nvSpPr>
        <p:spPr>
          <a:xfrm>
            <a:off x="1476360" y="3924360"/>
            <a:ext cx="6102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SO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O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2664000" y="1103040"/>
            <a:ext cx="345744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сфатни јон (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O</a:t>
            </a:r>
            <a:r>
              <a:rPr b="1" lang="sr-Latn-CS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1" lang="sr-Latn-C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3-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1129" name="Group 14"/>
          <p:cNvGrpSpPr/>
          <p:nvPr/>
        </p:nvGrpSpPr>
        <p:grpSpPr>
          <a:xfrm>
            <a:off x="179280" y="2738520"/>
            <a:ext cx="8640720" cy="510120"/>
            <a:chOff x="179280" y="2738520"/>
            <a:chExt cx="8640720" cy="510120"/>
          </a:xfrm>
        </p:grpSpPr>
        <p:sp>
          <p:nvSpPr>
            <p:cNvPr id="1130" name="Rectangle 8"/>
            <p:cNvSpPr/>
            <p:nvPr/>
          </p:nvSpPr>
          <p:spPr>
            <a:xfrm>
              <a:off x="179280" y="2738520"/>
              <a:ext cx="864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P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MgCl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N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H          MgN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(s)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2NaCl + 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Line 4"/>
            <p:cNvSpPr/>
            <p:nvPr/>
          </p:nvSpPr>
          <p:spPr>
            <a:xfrm>
              <a:off x="4139640" y="29077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Line 5"/>
            <p:cNvSpPr/>
            <p:nvPr/>
          </p:nvSpPr>
          <p:spPr>
            <a:xfrm flipH="1">
              <a:off x="4139640" y="30524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3" name="Group 12"/>
          <p:cNvGrpSpPr/>
          <p:nvPr/>
        </p:nvGrpSpPr>
        <p:grpSpPr>
          <a:xfrm>
            <a:off x="179280" y="4538520"/>
            <a:ext cx="8712360" cy="510120"/>
            <a:chOff x="179280" y="4538520"/>
            <a:chExt cx="8712360" cy="510120"/>
          </a:xfrm>
        </p:grpSpPr>
        <p:sp>
          <p:nvSpPr>
            <p:cNvPr id="1134" name="Rectangle 11"/>
            <p:cNvSpPr/>
            <p:nvPr/>
          </p:nvSpPr>
          <p:spPr>
            <a:xfrm>
              <a:off x="179280" y="4538520"/>
              <a:ext cx="8712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3N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sr-Latn-C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12Mo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sr-Latn-C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-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sr-Latn-C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r>
                <a:rPr b="1" lang="sr-Latn-C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N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12Mo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12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Line 6"/>
            <p:cNvSpPr/>
            <p:nvPr/>
          </p:nvSpPr>
          <p:spPr>
            <a:xfrm>
              <a:off x="4565160" y="4749120"/>
              <a:ext cx="41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Line 7"/>
            <p:cNvSpPr/>
            <p:nvPr/>
          </p:nvSpPr>
          <p:spPr>
            <a:xfrm flipH="1">
              <a:off x="4565160" y="4868640"/>
              <a:ext cx="41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7" name="Rectangle 7"/>
          <p:cNvSpPr/>
          <p:nvPr/>
        </p:nvSpPr>
        <p:spPr>
          <a:xfrm>
            <a:off x="179280" y="1803240"/>
            <a:ext cx="84963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исуству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 i NH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незијума гради бели кристални талог са фосфатним јонима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ectangle 9"/>
          <p:cNvSpPr/>
          <p:nvPr/>
        </p:nvSpPr>
        <p:spPr>
          <a:xfrm>
            <a:off x="182520" y="3500280"/>
            <a:ext cx="820584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онијум-молибдат у киселој средини, у присуству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NO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(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 фосфатним јонима гради жути кристални талог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13"/>
          <p:cNvSpPr/>
          <p:nvPr/>
        </p:nvSpPr>
        <p:spPr>
          <a:xfrm>
            <a:off x="4892760" y="5000760"/>
            <a:ext cx="293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онијум-фосфор-молибд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ти 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Box 1"/>
          <p:cNvSpPr/>
          <p:nvPr/>
        </p:nvSpPr>
        <p:spPr>
          <a:xfrm>
            <a:off x="184680" y="527832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11"/>
          <p:cNvSpPr/>
          <p:nvPr/>
        </p:nvSpPr>
        <p:spPr>
          <a:xfrm>
            <a:off x="179280" y="5838840"/>
            <a:ext cx="896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NH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2MoO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H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2H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Line 6"/>
          <p:cNvSpPr/>
          <p:nvPr/>
        </p:nvSpPr>
        <p:spPr>
          <a:xfrm>
            <a:off x="4565520" y="6151680"/>
            <a:ext cx="41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Line 7"/>
          <p:cNvSpPr/>
          <p:nvPr/>
        </p:nvSpPr>
        <p:spPr>
          <a:xfrm flipH="1">
            <a:off x="4565520" y="6021360"/>
            <a:ext cx="41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627280" y="1197000"/>
            <a:ext cx="396072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рбонатни јон (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</a:t>
            </a:r>
            <a:r>
              <a:rPr b="1" lang="sr-Latn-CS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-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1145" name="Group 12"/>
          <p:cNvGrpSpPr/>
          <p:nvPr/>
        </p:nvGrpSpPr>
        <p:grpSpPr>
          <a:xfrm>
            <a:off x="2628360" y="3292560"/>
            <a:ext cx="3552120" cy="510120"/>
            <a:chOff x="2628360" y="3292560"/>
            <a:chExt cx="3552120" cy="510120"/>
          </a:xfrm>
        </p:grpSpPr>
        <p:sp>
          <p:nvSpPr>
            <p:cNvPr id="1146" name="Rectangle 7"/>
            <p:cNvSpPr/>
            <p:nvPr/>
          </p:nvSpPr>
          <p:spPr>
            <a:xfrm>
              <a:off x="2628360" y="3292560"/>
              <a:ext cx="355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sr-Latn-C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-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Ca</a:t>
              </a:r>
              <a:r>
                <a:rPr b="1" lang="sr-Latn-C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+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C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(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Line 4"/>
            <p:cNvSpPr/>
            <p:nvPr/>
          </p:nvSpPr>
          <p:spPr>
            <a:xfrm>
              <a:off x="4427640" y="34689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Line 5"/>
            <p:cNvSpPr/>
            <p:nvPr/>
          </p:nvSpPr>
          <p:spPr>
            <a:xfrm flipH="1">
              <a:off x="4427280" y="36118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9" name="Group 10"/>
          <p:cNvGrpSpPr/>
          <p:nvPr/>
        </p:nvGrpSpPr>
        <p:grpSpPr>
          <a:xfrm>
            <a:off x="884160" y="5324400"/>
            <a:ext cx="6626160" cy="510120"/>
            <a:chOff x="884160" y="5324400"/>
            <a:chExt cx="6626160" cy="510120"/>
          </a:xfrm>
        </p:grpSpPr>
        <p:sp>
          <p:nvSpPr>
            <p:cNvPr id="1150" name="Rectangle 9"/>
            <p:cNvSpPr/>
            <p:nvPr/>
          </p:nvSpPr>
          <p:spPr>
            <a:xfrm>
              <a:off x="884160" y="5324400"/>
              <a:ext cx="662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2HCl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(g)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 + 2Na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Line 6"/>
            <p:cNvSpPr/>
            <p:nvPr/>
          </p:nvSpPr>
          <p:spPr>
            <a:xfrm>
              <a:off x="3620880" y="55432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6"/>
          <p:cNvSpPr/>
          <p:nvPr/>
        </p:nvSpPr>
        <p:spPr>
          <a:xfrm>
            <a:off x="182520" y="2193840"/>
            <a:ext cx="842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раствором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</a:t>
            </a:r>
            <a:r>
              <a:rPr b="0" lang="sr-Latn-C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</a:t>
            </a:r>
            <a:r>
              <a:rPr b="0" lang="sr-Latn-C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нати граде беле кристалне талоге, који се растварају у киселинам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Rectangle 8"/>
          <p:cNvSpPr/>
          <p:nvPr/>
        </p:nvSpPr>
        <p:spPr>
          <a:xfrm>
            <a:off x="182520" y="4508640"/>
            <a:ext cx="8028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ералне киселине разлажу карбонате, при чему настаје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4" name="Group 11"/>
          <p:cNvGrpSpPr/>
          <p:nvPr/>
        </p:nvGrpSpPr>
        <p:grpSpPr>
          <a:xfrm>
            <a:off x="1835280" y="3040200"/>
            <a:ext cx="5329080" cy="510120"/>
            <a:chOff x="1835280" y="3040200"/>
            <a:chExt cx="5329080" cy="510120"/>
          </a:xfrm>
        </p:grpSpPr>
        <p:sp>
          <p:nvSpPr>
            <p:cNvPr id="1155" name="Rectangle 7"/>
            <p:cNvSpPr/>
            <p:nvPr/>
          </p:nvSpPr>
          <p:spPr>
            <a:xfrm>
              <a:off x="1835280" y="3040200"/>
              <a:ext cx="5329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72880" indent="-2728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Ba(OH)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C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(s)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Line 4"/>
            <p:cNvSpPr/>
            <p:nvPr/>
          </p:nvSpPr>
          <p:spPr>
            <a:xfrm>
              <a:off x="4211280" y="3213360"/>
              <a:ext cx="6098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Line 5"/>
            <p:cNvSpPr/>
            <p:nvPr/>
          </p:nvSpPr>
          <p:spPr>
            <a:xfrm flipH="1">
              <a:off x="4211280" y="3357360"/>
              <a:ext cx="57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8" name="Group 12"/>
          <p:cNvGrpSpPr/>
          <p:nvPr/>
        </p:nvGrpSpPr>
        <p:grpSpPr>
          <a:xfrm>
            <a:off x="900000" y="4941720"/>
            <a:ext cx="7632720" cy="510120"/>
            <a:chOff x="900000" y="4941720"/>
            <a:chExt cx="7632720" cy="510120"/>
          </a:xfrm>
        </p:grpSpPr>
        <p:sp>
          <p:nvSpPr>
            <p:cNvPr id="1159" name="Rectangle 10"/>
            <p:cNvSpPr/>
            <p:nvPr/>
          </p:nvSpPr>
          <p:spPr>
            <a:xfrm>
              <a:off x="900000" y="4941720"/>
              <a:ext cx="7632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C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C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(HC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Line 6"/>
            <p:cNvSpPr/>
            <p:nvPr/>
          </p:nvSpPr>
          <p:spPr>
            <a:xfrm flipV="1">
              <a:off x="4932360" y="5085360"/>
              <a:ext cx="72396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Line 7"/>
            <p:cNvSpPr/>
            <p:nvPr/>
          </p:nvSpPr>
          <p:spPr>
            <a:xfrm flipH="1">
              <a:off x="4932360" y="523188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2" name="Rectangle 6"/>
          <p:cNvSpPr/>
          <p:nvPr/>
        </p:nvSpPr>
        <p:spPr>
          <a:xfrm>
            <a:off x="182520" y="1773360"/>
            <a:ext cx="835200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ли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ко се уводи у баритну воду, јавља се замућење које потиче од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O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ectangle 8"/>
          <p:cNvSpPr/>
          <p:nvPr/>
        </p:nvSpPr>
        <p:spPr>
          <a:xfrm>
            <a:off x="182520" y="4149720"/>
            <a:ext cx="8497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е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води у вишку долази до растварања насталог карбонат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3131640" y="1125000"/>
            <a:ext cx="3240360" cy="397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лоридни јон (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l </a:t>
            </a:r>
            <a:r>
              <a:rPr b="1" lang="sr-Latn-CS" sz="2800" spc="-1" strike="noStrike" baseline="48000">
                <a:solidFill>
                  <a:srgbClr val="c00000"/>
                </a:solidFill>
                <a:latin typeface="Times New Roman"/>
                <a:ea typeface="Times New Roman"/>
              </a:rPr>
              <a:t>–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1165" name="Group 14"/>
          <p:cNvGrpSpPr/>
          <p:nvPr/>
        </p:nvGrpSpPr>
        <p:grpSpPr>
          <a:xfrm>
            <a:off x="971640" y="2421000"/>
            <a:ext cx="7777080" cy="510120"/>
            <a:chOff x="971640" y="2421000"/>
            <a:chExt cx="7777080" cy="510120"/>
          </a:xfrm>
        </p:grpSpPr>
        <p:sp>
          <p:nvSpPr>
            <p:cNvPr id="1166" name="Rectangle 7"/>
            <p:cNvSpPr/>
            <p:nvPr/>
          </p:nvSpPr>
          <p:spPr>
            <a:xfrm>
              <a:off x="971640" y="2421000"/>
              <a:ext cx="777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gCl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(s)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2N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H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g(N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]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 + 2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Line 4"/>
            <p:cNvSpPr/>
            <p:nvPr/>
          </p:nvSpPr>
          <p:spPr>
            <a:xfrm>
              <a:off x="3709080" y="2598480"/>
              <a:ext cx="68940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Line 5"/>
            <p:cNvSpPr/>
            <p:nvPr/>
          </p:nvSpPr>
          <p:spPr>
            <a:xfrm flipH="1">
              <a:off x="3707640" y="2741040"/>
              <a:ext cx="66276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9" name="Group 10"/>
          <p:cNvGrpSpPr/>
          <p:nvPr/>
        </p:nvGrpSpPr>
        <p:grpSpPr>
          <a:xfrm>
            <a:off x="1476360" y="4149720"/>
            <a:ext cx="5832360" cy="510120"/>
            <a:chOff x="1476360" y="4149720"/>
            <a:chExt cx="5832360" cy="510120"/>
          </a:xfrm>
        </p:grpSpPr>
        <p:sp>
          <p:nvSpPr>
            <p:cNvPr id="1170" name="Rectangle 9"/>
            <p:cNvSpPr/>
            <p:nvPr/>
          </p:nvSpPr>
          <p:spPr>
            <a:xfrm>
              <a:off x="1476360" y="4149720"/>
              <a:ext cx="5832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Cl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(s)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Cl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(g)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Na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7"/>
            <p:cNvSpPr/>
            <p:nvPr/>
          </p:nvSpPr>
          <p:spPr>
            <a:xfrm flipV="1">
              <a:off x="3852360" y="4362120"/>
              <a:ext cx="62604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2" name="Rectangle 6"/>
          <p:cNvSpPr/>
          <p:nvPr/>
        </p:nvSpPr>
        <p:spPr>
          <a:xfrm>
            <a:off x="182520" y="1773360"/>
            <a:ext cx="8352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Cl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 сираст талог, раствара се у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Rectangle 8"/>
          <p:cNvSpPr/>
          <p:nvPr/>
        </p:nvSpPr>
        <p:spPr>
          <a:xfrm>
            <a:off x="179280" y="3068640"/>
            <a:ext cx="835344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ован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аже при загревању чврсте хлориде, при чему се издваја гасовити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15"/>
          <p:cNvSpPr/>
          <p:nvPr/>
        </p:nvSpPr>
        <p:spPr>
          <a:xfrm>
            <a:off x="179280" y="4797360"/>
            <a:ext cx="856944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е изнад реакционе смеше постави штапић овлажен раствором амонијака, појављује се густ бео дим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5" name="Group 16"/>
          <p:cNvGrpSpPr/>
          <p:nvPr/>
        </p:nvGrpSpPr>
        <p:grpSpPr>
          <a:xfrm>
            <a:off x="1979640" y="5919840"/>
            <a:ext cx="4896000" cy="510120"/>
            <a:chOff x="1979640" y="5919840"/>
            <a:chExt cx="4896000" cy="510120"/>
          </a:xfrm>
        </p:grpSpPr>
        <p:sp>
          <p:nvSpPr>
            <p:cNvPr id="1176" name="Rectangle 17"/>
            <p:cNvSpPr/>
            <p:nvPr/>
          </p:nvSpPr>
          <p:spPr>
            <a:xfrm>
              <a:off x="1979640" y="5919840"/>
              <a:ext cx="4896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Cl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(g)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N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N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(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Line 4"/>
            <p:cNvSpPr/>
            <p:nvPr/>
          </p:nvSpPr>
          <p:spPr>
            <a:xfrm flipV="1">
              <a:off x="4427640" y="6158880"/>
              <a:ext cx="58716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TextBox 1"/>
          <p:cNvSpPr/>
          <p:nvPr/>
        </p:nvSpPr>
        <p:spPr>
          <a:xfrm>
            <a:off x="179280" y="1484280"/>
            <a:ext cx="8713800" cy="48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аналитичка група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јони који са разблаженом хлороводоничном киселином граде слабо растворне хлорид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аналитичка група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јони чији су сулфиди врло мало растворни и таложе се из хлоридо-киселих раствора водоник-сулфидом (IIa и IIb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аналитичка група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јони који се у присуству амонијум-хлорида амонијаком таложе као хидроксид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аналитичка група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јони који се у амонијачној средини таложе амонијум-сулфидом као слабо растворни сулфид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аналитичка група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јони који се у амонијачној средини у присуству амонијум-хлорида таложе амонијум-карбонатом као слабо растворни карбона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 аналитичка група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јони који немају заједнички реагенс и који остају у филтрату после одвајања свих пет претходних груп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2842920" y="1133280"/>
            <a:ext cx="338436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итратни јон (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O</a:t>
            </a:r>
            <a:r>
              <a:rPr b="1" lang="sr-Latn-CS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2800" spc="-1" strike="noStrike" baseline="48000">
                <a:solidFill>
                  <a:srgbClr val="c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1179" name="Group 6"/>
          <p:cNvGrpSpPr/>
          <p:nvPr/>
        </p:nvGrpSpPr>
        <p:grpSpPr>
          <a:xfrm>
            <a:off x="250920" y="3933720"/>
            <a:ext cx="8569080" cy="510120"/>
            <a:chOff x="250920" y="3933720"/>
            <a:chExt cx="8569080" cy="510120"/>
          </a:xfrm>
        </p:grpSpPr>
        <p:sp>
          <p:nvSpPr>
            <p:cNvPr id="1180" name="Rectangle 5"/>
            <p:cNvSpPr/>
            <p:nvPr/>
          </p:nvSpPr>
          <p:spPr>
            <a:xfrm>
              <a:off x="250920" y="3933720"/>
              <a:ext cx="8569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HN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8FeS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3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e(NO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]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3Fe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S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4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Line 4"/>
            <p:cNvSpPr/>
            <p:nvPr/>
          </p:nvSpPr>
          <p:spPr>
            <a:xfrm>
              <a:off x="3851280" y="41788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2" name="Rectangle 4"/>
          <p:cNvSpPr/>
          <p:nvPr/>
        </p:nvSpPr>
        <p:spPr>
          <a:xfrm>
            <a:off x="182520" y="2276640"/>
            <a:ext cx="8891640" cy="11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ићен раствор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SO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присуству концентроване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а нитратима гради мрк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убичасти комплекс на граници додира сумпорне киселине и чврстог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SO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7"/>
          <p:cNvSpPr/>
          <p:nvPr/>
        </p:nvSpPr>
        <p:spPr>
          <a:xfrm>
            <a:off x="4287960" y="4365720"/>
            <a:ext cx="2009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рк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убича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8"/>
          <p:cNvSpPr/>
          <p:nvPr/>
        </p:nvSpPr>
        <p:spPr>
          <a:xfrm>
            <a:off x="3635280" y="4726080"/>
            <a:ext cx="331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трозилферат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сулфа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2339640" y="1204920"/>
            <a:ext cx="45370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цетатни јон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H</a:t>
            </a:r>
            <a:r>
              <a:rPr b="1" lang="sr-Latn-CS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O</a:t>
            </a:r>
            <a:r>
              <a:rPr b="1" lang="sr-Latn-CS" sz="2800" spc="-1" strike="noStrike" baseline="48000">
                <a:solidFill>
                  <a:srgbClr val="c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1186" name="Group 10"/>
          <p:cNvGrpSpPr/>
          <p:nvPr/>
        </p:nvGrpSpPr>
        <p:grpSpPr>
          <a:xfrm>
            <a:off x="611280" y="3111480"/>
            <a:ext cx="6985080" cy="510120"/>
            <a:chOff x="611280" y="3111480"/>
            <a:chExt cx="6985080" cy="510120"/>
          </a:xfrm>
        </p:grpSpPr>
        <p:sp>
          <p:nvSpPr>
            <p:cNvPr id="1187" name="Rectangle 6"/>
            <p:cNvSpPr/>
            <p:nvPr/>
          </p:nvSpPr>
          <p:spPr>
            <a:xfrm>
              <a:off x="611280" y="3111480"/>
              <a:ext cx="698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OK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(s)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KHS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(s)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K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 C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Line 4"/>
            <p:cNvSpPr/>
            <p:nvPr/>
          </p:nvSpPr>
          <p:spPr>
            <a:xfrm>
              <a:off x="3995640" y="33577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Group 9"/>
          <p:cNvGrpSpPr/>
          <p:nvPr/>
        </p:nvGrpSpPr>
        <p:grpSpPr>
          <a:xfrm>
            <a:off x="539640" y="4983120"/>
            <a:ext cx="7561440" cy="510120"/>
            <a:chOff x="539640" y="4983120"/>
            <a:chExt cx="7561440" cy="510120"/>
          </a:xfrm>
        </p:grpSpPr>
        <p:sp>
          <p:nvSpPr>
            <p:cNvPr id="1190" name="Rectangle 8"/>
            <p:cNvSpPr/>
            <p:nvPr/>
          </p:nvSpPr>
          <p:spPr>
            <a:xfrm>
              <a:off x="539640" y="4983120"/>
              <a:ext cx="7561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C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ONa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(aq)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C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OH + Na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Line 5"/>
            <p:cNvSpPr/>
            <p:nvPr/>
          </p:nvSpPr>
          <p:spPr>
            <a:xfrm>
              <a:off x="4069080" y="520632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2" name="Rectangle 5"/>
          <p:cNvSpPr/>
          <p:nvPr/>
        </p:nvSpPr>
        <p:spPr>
          <a:xfrm>
            <a:off x="182520" y="2133720"/>
            <a:ext cx="864252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врст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со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цетата када се протрља са чврстим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HSO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ди сирћетну киселину која се познаје по свом карактеристичном мирис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7"/>
          <p:cNvSpPr/>
          <p:nvPr/>
        </p:nvSpPr>
        <p:spPr>
          <a:xfrm>
            <a:off x="179280" y="395604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ке киселине разлажу ацетате из раствора, при чему настаје сирћетна киселин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1"/>
          <p:cNvSpPr/>
          <p:nvPr/>
        </p:nvSpPr>
        <p:spPr>
          <a:xfrm>
            <a:off x="182520" y="4292640"/>
            <a:ext cx="8425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з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)  сузбија јонизацију раствореног амониј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уферски систем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 /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2"/>
          <p:cNvSpPr/>
          <p:nvPr/>
        </p:nvSpPr>
        <p:spPr>
          <a:xfrm>
            <a:off x="2081880" y="1170000"/>
            <a:ext cx="497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тјони III аналитичке гру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182520" y="2011320"/>
            <a:ext cx="828036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жни реагенс 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H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H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(NH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)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,8·10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5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ољно да се исталоже хидроксид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, IV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упе и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g</a:t>
            </a:r>
            <a:r>
              <a:rPr b="0" lang="it-IT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а мања концентрациј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 (ниж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6"/>
          <p:cNvSpPr/>
          <p:nvPr/>
        </p:nvSpPr>
        <p:spPr>
          <a:xfrm>
            <a:off x="4140360" y="53006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ксиди III групе катјона су теже растворни (мања Ks) од осталих хидрокси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9" name="Object 4"/>
              <p:cNvSpPr txBox="1"/>
              <p:nvPr/>
            </p:nvSpPr>
            <p:spPr>
              <a:xfrm>
                <a:off x="907920" y="5684760"/>
                <a:ext cx="28051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60" name="Group 13"/>
          <p:cNvGrpSpPr/>
          <p:nvPr/>
        </p:nvGrpSpPr>
        <p:grpSpPr>
          <a:xfrm>
            <a:off x="1690560" y="3382920"/>
            <a:ext cx="3529080" cy="510120"/>
            <a:chOff x="1690560" y="3382920"/>
            <a:chExt cx="3529080" cy="510120"/>
          </a:xfrm>
        </p:grpSpPr>
        <p:sp>
          <p:nvSpPr>
            <p:cNvPr id="761" name="Rectangle 5"/>
            <p:cNvSpPr/>
            <p:nvPr/>
          </p:nvSpPr>
          <p:spPr>
            <a:xfrm>
              <a:off x="1690560" y="3382920"/>
              <a:ext cx="3529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H       N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+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 OH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2" name="Straight Arrow Connector 9"/>
            <p:cNvCxnSpPr/>
            <p:nvPr/>
          </p:nvCxnSpPr>
          <p:spPr>
            <a:xfrm>
              <a:off x="2842560" y="3747600"/>
              <a:ext cx="36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63" name="Straight Arrow Connector 11"/>
            <p:cNvCxnSpPr/>
            <p:nvPr/>
          </p:nvCxnSpPr>
          <p:spPr>
            <a:xfrm flipH="1">
              <a:off x="2842200" y="3819240"/>
              <a:ext cx="36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0"/>
          <p:cNvSpPr/>
          <p:nvPr/>
        </p:nvSpPr>
        <p:spPr>
          <a:xfrm>
            <a:off x="1728720" y="4645080"/>
            <a:ext cx="14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О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54"/>
          <p:cNvSpPr/>
          <p:nvPr/>
        </p:nvSpPr>
        <p:spPr>
          <a:xfrm>
            <a:off x="1265040" y="3573360"/>
            <a:ext cx="2497320" cy="6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(OH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Mn(OH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вено-смеђи         бел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traight Connector 11"/>
          <p:cNvSpPr/>
          <p:nvPr/>
        </p:nvSpPr>
        <p:spPr>
          <a:xfrm>
            <a:off x="1979640" y="2867040"/>
            <a:ext cx="46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traight Connector 12"/>
          <p:cNvSpPr/>
          <p:nvPr/>
        </p:nvSpPr>
        <p:spPr>
          <a:xfrm>
            <a:off x="4140360" y="28670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traight Connector 13"/>
          <p:cNvSpPr/>
          <p:nvPr/>
        </p:nvSpPr>
        <p:spPr>
          <a:xfrm>
            <a:off x="1773360" y="3297240"/>
            <a:ext cx="46130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9" name="Straight Arrow Connector 14"/>
          <p:cNvCxnSpPr/>
          <p:nvPr/>
        </p:nvCxnSpPr>
        <p:spPr>
          <a:xfrm>
            <a:off x="1763280" y="329832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0" name="Straight Arrow Connector 15"/>
          <p:cNvCxnSpPr/>
          <p:nvPr/>
        </p:nvCxnSpPr>
        <p:spPr>
          <a:xfrm>
            <a:off x="6372000" y="329832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1" name="Straight Connector 16"/>
          <p:cNvSpPr/>
          <p:nvPr/>
        </p:nvSpPr>
        <p:spPr>
          <a:xfrm>
            <a:off x="1204920" y="4141800"/>
            <a:ext cx="250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Straight Connector 17"/>
          <p:cNvSpPr/>
          <p:nvPr/>
        </p:nvSpPr>
        <p:spPr>
          <a:xfrm>
            <a:off x="4859280" y="409428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3" name="Straight Arrow Connector 18"/>
          <p:cNvCxnSpPr/>
          <p:nvPr/>
        </p:nvCxnSpPr>
        <p:spPr>
          <a:xfrm>
            <a:off x="2400120" y="415080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4" name="Straight Connector 23"/>
          <p:cNvSpPr/>
          <p:nvPr/>
        </p:nvSpPr>
        <p:spPr>
          <a:xfrm flipV="1">
            <a:off x="5611680" y="4941720"/>
            <a:ext cx="1839960" cy="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traight Connector 26"/>
          <p:cNvSpPr/>
          <p:nvPr/>
        </p:nvSpPr>
        <p:spPr>
          <a:xfrm>
            <a:off x="1233360" y="5014800"/>
            <a:ext cx="263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90"/>
          <p:cNvSpPr/>
          <p:nvPr/>
        </p:nvSpPr>
        <p:spPr>
          <a:xfrm>
            <a:off x="1763640" y="2960640"/>
            <a:ext cx="792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91"/>
          <p:cNvSpPr/>
          <p:nvPr/>
        </p:nvSpPr>
        <p:spPr>
          <a:xfrm>
            <a:off x="6300720" y="2946240"/>
            <a:ext cx="1008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traight Connector 42"/>
          <p:cNvSpPr/>
          <p:nvPr/>
        </p:nvSpPr>
        <p:spPr>
          <a:xfrm>
            <a:off x="1258920" y="1773360"/>
            <a:ext cx="554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1"/>
          <p:cNvSpPr/>
          <p:nvPr/>
        </p:nvSpPr>
        <p:spPr>
          <a:xfrm>
            <a:off x="2154240" y="91908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тјони III аналитичке гру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0" name="Straight Arrow Connector 44"/>
          <p:cNvCxnSpPr/>
          <p:nvPr/>
        </p:nvCxnSpPr>
        <p:spPr>
          <a:xfrm>
            <a:off x="3995280" y="177300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1" name="TextBox 1"/>
          <p:cNvSpPr/>
          <p:nvPr/>
        </p:nvSpPr>
        <p:spPr>
          <a:xfrm>
            <a:off x="2843280" y="140328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(M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47"/>
          <p:cNvSpPr/>
          <p:nvPr/>
        </p:nvSpPr>
        <p:spPr>
          <a:xfrm>
            <a:off x="4016880" y="1773360"/>
            <a:ext cx="149436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 + N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Group 51"/>
          <p:cNvGrpSpPr/>
          <p:nvPr/>
        </p:nvGrpSpPr>
        <p:grpSpPr>
          <a:xfrm>
            <a:off x="1116000" y="2204640"/>
            <a:ext cx="6624720" cy="634320"/>
            <a:chOff x="1116000" y="2204640"/>
            <a:chExt cx="6624720" cy="634320"/>
          </a:xfrm>
        </p:grpSpPr>
        <p:sp>
          <p:nvSpPr>
            <p:cNvPr id="784" name="Rectangle 15"/>
            <p:cNvSpPr/>
            <p:nvPr/>
          </p:nvSpPr>
          <p:spPr>
            <a:xfrm>
              <a:off x="1116000" y="2205000"/>
              <a:ext cx="6624720" cy="63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e(OH)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Fe(OH)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Mn(OH)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Cr(OH)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Al(OH)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лаво-зелени    црвено-смеђи         бели             сиво-зелени          бел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5" name="Straight Arrow Connector 3"/>
            <p:cNvCxnSpPr/>
            <p:nvPr/>
          </p:nvCxnSpPr>
          <p:spPr>
            <a:xfrm>
              <a:off x="2339640" y="2204640"/>
              <a:ext cx="108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86" name="Straight Arrow Connector 4"/>
            <p:cNvCxnSpPr/>
            <p:nvPr/>
          </p:nvCxnSpPr>
          <p:spPr>
            <a:xfrm>
              <a:off x="3636720" y="2204640"/>
              <a:ext cx="108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87" name="Straight Arrow Connector 5"/>
            <p:cNvCxnSpPr/>
            <p:nvPr/>
          </p:nvCxnSpPr>
          <p:spPr>
            <a:xfrm>
              <a:off x="4860720" y="2204640"/>
              <a:ext cx="108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88" name="Straight Arrow Connector 49"/>
            <p:cNvCxnSpPr/>
            <p:nvPr/>
          </p:nvCxnSpPr>
          <p:spPr>
            <a:xfrm>
              <a:off x="6084720" y="2204640"/>
              <a:ext cx="108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89" name="Straight Arrow Connector 50"/>
            <p:cNvCxnSpPr/>
            <p:nvPr/>
          </p:nvCxnSpPr>
          <p:spPr>
            <a:xfrm>
              <a:off x="7164360" y="2204640"/>
              <a:ext cx="108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790" name="Rectangle 52"/>
          <p:cNvSpPr/>
          <p:nvPr/>
        </p:nvSpPr>
        <p:spPr>
          <a:xfrm>
            <a:off x="4161960" y="2924280"/>
            <a:ext cx="170136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OH (6М) + 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21"/>
          <p:cNvSpPr/>
          <p:nvPr/>
        </p:nvSpPr>
        <p:spPr>
          <a:xfrm>
            <a:off x="5378760" y="3716280"/>
            <a:ext cx="2012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[Al(OH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56"/>
          <p:cNvSpPr/>
          <p:nvPr/>
        </p:nvSpPr>
        <p:spPr>
          <a:xfrm>
            <a:off x="2437200" y="4149720"/>
            <a:ext cx="168624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. HNO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3" name="Straight Arrow Connector 63"/>
          <p:cNvCxnSpPr/>
          <p:nvPr/>
        </p:nvCxnSpPr>
        <p:spPr>
          <a:xfrm>
            <a:off x="3850920" y="558936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4" name="Straight Arrow Connector 64"/>
          <p:cNvCxnSpPr/>
          <p:nvPr/>
        </p:nvCxnSpPr>
        <p:spPr>
          <a:xfrm>
            <a:off x="2660400" y="558936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5" name="Rectangle 65"/>
          <p:cNvSpPr/>
          <p:nvPr/>
        </p:nvSpPr>
        <p:spPr>
          <a:xfrm>
            <a:off x="324000" y="5300640"/>
            <a:ext cx="187164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  + K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Fe(CN)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Straight Connector 67"/>
          <p:cNvSpPr/>
          <p:nvPr/>
        </p:nvSpPr>
        <p:spPr>
          <a:xfrm>
            <a:off x="1233360" y="5021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7" name="Straight Arrow Connector 69"/>
          <p:cNvCxnSpPr/>
          <p:nvPr/>
        </p:nvCxnSpPr>
        <p:spPr>
          <a:xfrm>
            <a:off x="1242720" y="5610240"/>
            <a:ext cx="1080" cy="32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8" name="Rectangle 70"/>
          <p:cNvSpPr/>
          <p:nvPr/>
        </p:nvSpPr>
        <p:spPr>
          <a:xfrm>
            <a:off x="2240280" y="5300640"/>
            <a:ext cx="88020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Straight Connector 73"/>
          <p:cNvSpPr/>
          <p:nvPr/>
        </p:nvSpPr>
        <p:spPr>
          <a:xfrm>
            <a:off x="2660760" y="501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74"/>
          <p:cNvSpPr/>
          <p:nvPr/>
        </p:nvSpPr>
        <p:spPr>
          <a:xfrm>
            <a:off x="3572640" y="5300640"/>
            <a:ext cx="62244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bO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Straight Connector 75"/>
          <p:cNvSpPr/>
          <p:nvPr/>
        </p:nvSpPr>
        <p:spPr>
          <a:xfrm>
            <a:off x="3851280" y="501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76"/>
          <p:cNvSpPr/>
          <p:nvPr/>
        </p:nvSpPr>
        <p:spPr>
          <a:xfrm>
            <a:off x="335880" y="6022800"/>
            <a:ext cx="1642320" cy="6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Fe(CN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линско плав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77"/>
          <p:cNvSpPr/>
          <p:nvPr/>
        </p:nvSpPr>
        <p:spPr>
          <a:xfrm>
            <a:off x="1918440" y="5950080"/>
            <a:ext cx="132984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(SCN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вене бој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78"/>
          <p:cNvSpPr/>
          <p:nvPr/>
        </p:nvSpPr>
        <p:spPr>
          <a:xfrm>
            <a:off x="3137760" y="5905440"/>
            <a:ext cx="148068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О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убичасте бој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79"/>
          <p:cNvSpPr/>
          <p:nvPr/>
        </p:nvSpPr>
        <p:spPr>
          <a:xfrm>
            <a:off x="5163120" y="5950080"/>
            <a:ext cx="10843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bC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Straight Connector 83"/>
          <p:cNvSpPr/>
          <p:nvPr/>
        </p:nvSpPr>
        <p:spPr>
          <a:xfrm flipH="1">
            <a:off x="6442200" y="410040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84"/>
          <p:cNvSpPr/>
          <p:nvPr/>
        </p:nvSpPr>
        <p:spPr>
          <a:xfrm>
            <a:off x="4961160" y="5194440"/>
            <a:ext cx="121860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bAc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HA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8" name="Straight Arrow Connector 85"/>
          <p:cNvCxnSpPr/>
          <p:nvPr/>
        </p:nvCxnSpPr>
        <p:spPr>
          <a:xfrm>
            <a:off x="5606640" y="553356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9" name="Straight Connector 86"/>
          <p:cNvSpPr/>
          <p:nvPr/>
        </p:nvSpPr>
        <p:spPr>
          <a:xfrm>
            <a:off x="5607000" y="49579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0" name="Straight Arrow Connector 89"/>
          <p:cNvCxnSpPr/>
          <p:nvPr/>
        </p:nvCxnSpPr>
        <p:spPr>
          <a:xfrm>
            <a:off x="7451280" y="551628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1" name="Straight Connector 90"/>
          <p:cNvSpPr/>
          <p:nvPr/>
        </p:nvSpPr>
        <p:spPr>
          <a:xfrm>
            <a:off x="7451640" y="4941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91"/>
          <p:cNvSpPr/>
          <p:nvPr/>
        </p:nvSpPr>
        <p:spPr>
          <a:xfrm>
            <a:off x="7113240" y="5229360"/>
            <a:ext cx="68976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92"/>
          <p:cNvSpPr/>
          <p:nvPr/>
        </p:nvSpPr>
        <p:spPr>
          <a:xfrm>
            <a:off x="6958080" y="5950080"/>
            <a:ext cx="985320" cy="6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(OH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6"/>
          <p:cNvSpPr/>
          <p:nvPr/>
        </p:nvSpPr>
        <p:spPr>
          <a:xfrm>
            <a:off x="5884920" y="1427040"/>
            <a:ext cx="3259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/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 - таложни реаген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5" name="Object 2"/>
          <p:cNvGraphicFramePr/>
          <p:nvPr/>
        </p:nvGraphicFramePr>
        <p:xfrm>
          <a:off x="106200" y="2133720"/>
          <a:ext cx="434664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" y="2133720"/>
                    <a:ext cx="43466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7" name="Object 3"/>
          <p:cNvGraphicFramePr/>
          <p:nvPr/>
        </p:nvGraphicFramePr>
        <p:xfrm>
          <a:off x="4716360" y="2133720"/>
          <a:ext cx="433224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2133720"/>
                    <a:ext cx="4332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9" name="Object 4"/>
          <p:cNvGraphicFramePr/>
          <p:nvPr/>
        </p:nvGraphicFramePr>
        <p:xfrm>
          <a:off x="1692360" y="3068640"/>
          <a:ext cx="540072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92360" y="3068640"/>
                    <a:ext cx="54007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1" name="Object 5"/>
          <p:cNvGraphicFramePr/>
          <p:nvPr/>
        </p:nvGraphicFramePr>
        <p:xfrm>
          <a:off x="1116000" y="3933720"/>
          <a:ext cx="6278400" cy="37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2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16000" y="3933720"/>
                    <a:ext cx="62784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3" name="Object 8"/>
          <p:cNvGraphicFramePr/>
          <p:nvPr/>
        </p:nvGraphicFramePr>
        <p:xfrm>
          <a:off x="900000" y="5807160"/>
          <a:ext cx="7083360" cy="360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24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00000" y="5807160"/>
                    <a:ext cx="7083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5" name="TextBox 8"/>
          <p:cNvSpPr/>
          <p:nvPr/>
        </p:nvSpPr>
        <p:spPr>
          <a:xfrm>
            <a:off x="4441680" y="61326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вожђе(III)-тиоцијан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твор црвене бо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9"/>
          <p:cNvSpPr/>
          <p:nvPr/>
        </p:nvSpPr>
        <p:spPr>
          <a:xfrm>
            <a:off x="5202360" y="50976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берлинско пла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10"/>
          <p:cNvSpPr/>
          <p:nvPr/>
        </p:nvSpPr>
        <p:spPr>
          <a:xfrm>
            <a:off x="2843280" y="2556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вено-смеђ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11"/>
          <p:cNvSpPr/>
          <p:nvPr/>
        </p:nvSpPr>
        <p:spPr>
          <a:xfrm>
            <a:off x="7453440" y="256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во-зел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12"/>
          <p:cNvSpPr/>
          <p:nvPr/>
        </p:nvSpPr>
        <p:spPr>
          <a:xfrm>
            <a:off x="0" y="1989000"/>
            <a:ext cx="4572000" cy="935280"/>
          </a:xfrm>
          <a:prstGeom prst="rect">
            <a:avLst/>
          </a:pr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13"/>
          <p:cNvSpPr/>
          <p:nvPr/>
        </p:nvSpPr>
        <p:spPr>
          <a:xfrm>
            <a:off x="4572000" y="1989000"/>
            <a:ext cx="4572000" cy="93528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14"/>
          <p:cNvSpPr/>
          <p:nvPr/>
        </p:nvSpPr>
        <p:spPr>
          <a:xfrm>
            <a:off x="3006720" y="1068480"/>
            <a:ext cx="34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вожђе (Fe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Fe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3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Picture 2" descr=""/>
          <p:cNvPicPr/>
          <p:nvPr/>
        </p:nvPicPr>
        <p:blipFill>
          <a:blip r:embed="rId11"/>
          <a:stretch/>
        </p:blipFill>
        <p:spPr>
          <a:xfrm>
            <a:off x="312840" y="4556160"/>
            <a:ext cx="851832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Box 1"/>
          <p:cNvSpPr/>
          <p:nvPr/>
        </p:nvSpPr>
        <p:spPr>
          <a:xfrm>
            <a:off x="2987640" y="126828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нган (Mn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4" name="Object 2"/>
          <p:cNvGraphicFramePr/>
          <p:nvPr/>
        </p:nvGraphicFramePr>
        <p:xfrm>
          <a:off x="900000" y="3238560"/>
          <a:ext cx="7201080" cy="38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3238560"/>
                    <a:ext cx="720108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6" name="TextBox 5"/>
          <p:cNvSpPr/>
          <p:nvPr/>
        </p:nvSpPr>
        <p:spPr>
          <a:xfrm>
            <a:off x="4932360" y="44607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створ љубичасте бо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7" name="Object 4"/>
          <p:cNvGraphicFramePr/>
          <p:nvPr/>
        </p:nvGraphicFramePr>
        <p:xfrm>
          <a:off x="108000" y="4149720"/>
          <a:ext cx="9036000" cy="31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4149720"/>
                    <a:ext cx="903600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9" name="Object 5"/>
          <p:cNvGraphicFramePr/>
          <p:nvPr/>
        </p:nvGraphicFramePr>
        <p:xfrm>
          <a:off x="3059280" y="5373720"/>
          <a:ext cx="2171520" cy="68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59280" y="5373720"/>
                    <a:ext cx="217152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1" name="Straight Connector 9"/>
          <p:cNvSpPr/>
          <p:nvPr/>
        </p:nvSpPr>
        <p:spPr>
          <a:xfrm flipH="1">
            <a:off x="5148000" y="5229360"/>
            <a:ext cx="3603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10"/>
          <p:cNvSpPr/>
          <p:nvPr/>
        </p:nvSpPr>
        <p:spPr>
          <a:xfrm>
            <a:off x="5435640" y="54468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11"/>
          <p:cNvSpPr/>
          <p:nvPr/>
        </p:nvSpPr>
        <p:spPr>
          <a:xfrm>
            <a:off x="4932360" y="2492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 та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4" name="Object 6"/>
          <p:cNvGraphicFramePr/>
          <p:nvPr/>
        </p:nvGraphicFramePr>
        <p:xfrm>
          <a:off x="2124000" y="2060640"/>
          <a:ext cx="4248360" cy="53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5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24000" y="2060640"/>
                    <a:ext cx="42483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Box 1"/>
          <p:cNvSpPr/>
          <p:nvPr/>
        </p:nvSpPr>
        <p:spPr>
          <a:xfrm>
            <a:off x="3243240" y="10587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ром (Cr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3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7" name="Object 2"/>
          <p:cNvGraphicFramePr/>
          <p:nvPr/>
        </p:nvGraphicFramePr>
        <p:xfrm>
          <a:off x="1619280" y="1698480"/>
          <a:ext cx="4753080" cy="6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698480"/>
                    <a:ext cx="475308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9" name="Object 3"/>
          <p:cNvGraphicFramePr/>
          <p:nvPr/>
        </p:nvGraphicFramePr>
        <p:xfrm>
          <a:off x="1576440" y="3203640"/>
          <a:ext cx="4903560" cy="43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76440" y="3203640"/>
                    <a:ext cx="4903560" cy="43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1" name="Object 5"/>
          <p:cNvGraphicFramePr/>
          <p:nvPr/>
        </p:nvGraphicFramePr>
        <p:xfrm>
          <a:off x="2340000" y="4827600"/>
          <a:ext cx="2019240" cy="68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40000" y="4827600"/>
                    <a:ext cx="201924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3" name="Object 6"/>
          <p:cNvGraphicFramePr/>
          <p:nvPr/>
        </p:nvGraphicFramePr>
        <p:xfrm>
          <a:off x="216000" y="5792760"/>
          <a:ext cx="8748720" cy="635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6000" y="5792760"/>
                    <a:ext cx="874872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5" name="TextBox 7"/>
          <p:cNvSpPr/>
          <p:nvPr/>
        </p:nvSpPr>
        <p:spPr>
          <a:xfrm>
            <a:off x="4468680" y="2195640"/>
            <a:ext cx="32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во-зелени 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8"/>
          <p:cNvSpPr/>
          <p:nvPr/>
        </p:nvSpPr>
        <p:spPr>
          <a:xfrm>
            <a:off x="5141880" y="629928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жути 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Box 9"/>
          <p:cNvSpPr/>
          <p:nvPr/>
        </p:nvSpPr>
        <p:spPr>
          <a:xfrm>
            <a:off x="4602240" y="35384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створ зелене бо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10"/>
          <p:cNvSpPr/>
          <p:nvPr/>
        </p:nvSpPr>
        <p:spPr>
          <a:xfrm>
            <a:off x="5688000" y="44877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раствор жуте бо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9" name="Object 7"/>
          <p:cNvGraphicFramePr/>
          <p:nvPr/>
        </p:nvGraphicFramePr>
        <p:xfrm>
          <a:off x="395280" y="4122720"/>
          <a:ext cx="8412120" cy="360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0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5280" y="4122720"/>
                    <a:ext cx="84121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1" name="Rectangle 1"/>
          <p:cNvSpPr/>
          <p:nvPr/>
        </p:nvSpPr>
        <p:spPr>
          <a:xfrm>
            <a:off x="108000" y="2627280"/>
            <a:ext cx="8640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(OH)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амфотеран хидроксид; раствара се у вишку баз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TextBox 1"/>
          <p:cNvSpPr/>
          <p:nvPr/>
        </p:nvSpPr>
        <p:spPr>
          <a:xfrm>
            <a:off x="2843280" y="119700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уминијум (Al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3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3" name="Object 2"/>
          <p:cNvGraphicFramePr/>
          <p:nvPr/>
        </p:nvGraphicFramePr>
        <p:xfrm>
          <a:off x="2052720" y="2062080"/>
          <a:ext cx="446400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720" y="2062080"/>
                    <a:ext cx="446400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5" name="Object 3"/>
          <p:cNvGraphicFramePr/>
          <p:nvPr/>
        </p:nvGraphicFramePr>
        <p:xfrm>
          <a:off x="974880" y="4005360"/>
          <a:ext cx="5903640" cy="3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4880" y="4005360"/>
                    <a:ext cx="59036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7" name="Object 5"/>
          <p:cNvGraphicFramePr/>
          <p:nvPr/>
        </p:nvGraphicFramePr>
        <p:xfrm>
          <a:off x="503280" y="5268960"/>
          <a:ext cx="4680000" cy="347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280" y="5268960"/>
                    <a:ext cx="468000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9" name="TextBox 6"/>
          <p:cNvSpPr/>
          <p:nvPr/>
        </p:nvSpPr>
        <p:spPr>
          <a:xfrm>
            <a:off x="5398920" y="4965840"/>
            <a:ext cx="22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лог црвене бо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1"/>
          <p:cNvSpPr/>
          <p:nvPr/>
        </p:nvSpPr>
        <p:spPr>
          <a:xfrm>
            <a:off x="5085000" y="247176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 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2"/>
          <p:cNvSpPr/>
          <p:nvPr/>
        </p:nvSpPr>
        <p:spPr>
          <a:xfrm>
            <a:off x="219960" y="2998800"/>
            <a:ext cx="7272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(OH)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амфотеран хидроксид; раствара се у вишку баз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Box 3"/>
          <p:cNvSpPr/>
          <p:nvPr/>
        </p:nvSpPr>
        <p:spPr>
          <a:xfrm>
            <a:off x="4932360" y="43322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бојан раств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06:32:23Z</dcterms:created>
  <dc:creator>Rastko Vukicevic</dc:creator>
  <dc:description/>
  <dc:language>en-US</dc:language>
  <cp:lastModifiedBy>korisnik</cp:lastModifiedBy>
  <dcterms:modified xsi:type="dcterms:W3CDTF">2017-10-20T09:17:57Z</dcterms:modified>
  <cp:revision>448</cp:revision>
  <dc:subject/>
  <dc:title>Slide 1</dc:title>
</cp:coreProperties>
</file>